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98E-8F91-4673-AAA5-F5A08D68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4A8-EB35-44C4-9E6A-2A1DA28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934-763B-4598-B14C-5F39C42A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68F-A954-4F8E-87B2-83BA3927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D646-B56B-4704-92AF-443F1FA7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CE93-166D-4642-AC11-B38E9193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D062-160E-4FF2-B7FE-8A21CECE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5638-A3DF-4D1D-8B2F-B80999EF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8999-1065-45AB-BC28-17D3C649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22BD-C32E-49DB-A35C-0FC51419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2E68-A18E-4AFA-88BA-B304E008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D27-8324-457D-AA8F-81BFA506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88AC-55E4-42BA-86FD-484DB971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E8BA-13F9-4BD9-8F0B-759C950B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141D-4E77-433C-892C-A3A74B3C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6C14-278F-403E-BF3D-D60BA090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C892-FCD8-4E4B-8292-4D40A368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44B-C848-4D7B-BAA6-224A1E22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793-AD00-48EB-A40D-91E9AC7A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8F0-565F-4EDE-A015-2CCD9B8B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DFB-1244-4E25-8013-D87AF2CA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E8F-832F-4922-AEE3-E0953CB7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693-D98A-4536-AB7B-171492A2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81A-DD47-4B34-8C3E-C684F0D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5E72-7EDD-4A3A-8253-28AE04138F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B348-232C-4A95-9DC1-DE33504E92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alan.co.uk/images/library/jan-07-clearance-sale.gif&amp;imgrefurl=http://forums.moneysavingexpert.com/showthread.html%3Ft%3D664813&amp;usg=__b_pqS3Awg7fj41AkO9PN5XshF8c=&amp;h=750&amp;w=600&amp;sz=22&amp;hl=en&amp;start=8&amp;tbnid=Xzz0hzevJ166SM:&amp;tbnh=141&amp;tbnw=113&amp;prev=/images%3Fq%3Dclearance%2Bsale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ellforleathermagazine.com/images/BMW-K1000RS1.jpg&amp;imgrefurl=http://hellforleathermagazine.com/2008/04/2009-bmw-s1000rr-is-official.html&amp;usg=__ijSJlnMpXWmXPDYOLHU16ncB7ag=&amp;h=319&amp;w=415&amp;sz=48&amp;hl=en&amp;start=5&amp;tbnid=KkQswPrSCAD1VM:&amp;tbnh=96&amp;tbnw=125&amp;prev=/images%3Fq%3Dbmw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carry out calculations involving reverse percentages, e.g. finding the cost price given the selling price and the percentage prof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obtain appropriate upper and lower bounds to solutions of simple problems (e.g. the calculation of the perimeter or the area of a rectangle) given data to a specified accura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use language, notation and Venn diagrams to describe sets and represent relationships between sets (see syllabus for lis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pper and Lower B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rectangle, the sides are measured to the nearest cm. What is the smallest possible exact are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63680" y="3570120"/>
            <a:ext cx="2917800" cy="13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035600"/>
            <a:ext cx="21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35200" y="311292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68280" y="5581800"/>
            <a:ext cx="160560" cy="152280"/>
          </a:xfrm>
          <a:custGeom>
            <a:avLst/>
            <a:gdLst/>
            <a:ahLst/>
            <a:rect l="l" t="t" r="r" b="b"/>
            <a:pathLst>
              <a:path w="448" h="423">
                <a:moveTo>
                  <a:pt x="3969" y="15503"/>
                </a:moveTo>
                <a:cubicBezTo>
                  <a:pt x="3704" y="15727"/>
                  <a:pt x="3645" y="15759"/>
                  <a:pt x="3522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43040" y="2955960"/>
            <a:ext cx="482760" cy="250920"/>
          </a:xfrm>
          <a:custGeom>
            <a:avLst/>
            <a:gdLst/>
            <a:ahLst/>
            <a:rect l="l" t="t" r="r" b="b"/>
            <a:pathLst>
              <a:path w="1341" h="696">
                <a:moveTo>
                  <a:pt x="4564" y="8334"/>
                </a:moveTo>
                <a:cubicBezTo>
                  <a:pt x="4564" y="8430"/>
                  <a:pt x="4586" y="8511"/>
                  <a:pt x="4589" y="8607"/>
                </a:cubicBezTo>
                <a:cubicBezTo>
                  <a:pt x="4592" y="8714"/>
                  <a:pt x="4626" y="8803"/>
                  <a:pt x="4638" y="8905"/>
                </a:cubicBezTo>
              </a:path>
              <a:path w="1341" h="696">
                <a:moveTo>
                  <a:pt x="5011" y="8310"/>
                </a:moveTo>
                <a:cubicBezTo>
                  <a:pt x="5019" y="8310"/>
                  <a:pt x="5027" y="8310"/>
                  <a:pt x="5035" y="8310"/>
                </a:cubicBezTo>
                <a:cubicBezTo>
                  <a:pt x="4978" y="8266"/>
                  <a:pt x="4967" y="8282"/>
                  <a:pt x="4911" y="8334"/>
                </a:cubicBezTo>
                <a:cubicBezTo>
                  <a:pt x="4858" y="8383"/>
                  <a:pt x="4844" y="8490"/>
                  <a:pt x="4862" y="8558"/>
                </a:cubicBezTo>
                <a:cubicBezTo>
                  <a:pt x="4884" y="8601"/>
                  <a:pt x="4888" y="8612"/>
                  <a:pt x="4911" y="8632"/>
                </a:cubicBezTo>
                <a:cubicBezTo>
                  <a:pt x="4983" y="8614"/>
                  <a:pt x="4982" y="8582"/>
                  <a:pt x="4986" y="8508"/>
                </a:cubicBezTo>
                <a:cubicBezTo>
                  <a:pt x="4989" y="8455"/>
                  <a:pt x="5000" y="8452"/>
                  <a:pt x="5011" y="8409"/>
                </a:cubicBezTo>
                <a:cubicBezTo>
                  <a:pt x="5044" y="8466"/>
                  <a:pt x="5056" y="8539"/>
                  <a:pt x="5085" y="8607"/>
                </a:cubicBezTo>
                <a:cubicBezTo>
                  <a:pt x="5107" y="8659"/>
                  <a:pt x="5147" y="8706"/>
                  <a:pt x="5159" y="8756"/>
                </a:cubicBezTo>
              </a:path>
              <a:path w="1341" h="696">
                <a:moveTo>
                  <a:pt x="5283" y="8682"/>
                </a:moveTo>
                <a:cubicBezTo>
                  <a:pt x="5343" y="8690"/>
                  <a:pt x="5355" y="8718"/>
                  <a:pt x="5407" y="8731"/>
                </a:cubicBezTo>
              </a:path>
              <a:path w="1341" h="696">
                <a:moveTo>
                  <a:pt x="5531" y="8409"/>
                </a:moveTo>
                <a:cubicBezTo>
                  <a:pt x="5558" y="8373"/>
                  <a:pt x="5548" y="8370"/>
                  <a:pt x="5581" y="8359"/>
                </a:cubicBezTo>
                <a:cubicBezTo>
                  <a:pt x="5571" y="8398"/>
                  <a:pt x="5556" y="8414"/>
                  <a:pt x="5556" y="8458"/>
                </a:cubicBezTo>
                <a:cubicBezTo>
                  <a:pt x="5556" y="8529"/>
                  <a:pt x="5608" y="8566"/>
                  <a:pt x="5680" y="8582"/>
                </a:cubicBezTo>
                <a:cubicBezTo>
                  <a:pt x="5732" y="8593"/>
                  <a:pt x="5874" y="8547"/>
                  <a:pt x="5904" y="8607"/>
                </a:cubicBezTo>
                <a:cubicBezTo>
                  <a:pt x="5928" y="8655"/>
                  <a:pt x="5893" y="8692"/>
                  <a:pt x="5854" y="8706"/>
                </a:cubicBezTo>
                <a:cubicBezTo>
                  <a:pt x="5799" y="8725"/>
                  <a:pt x="5729" y="8700"/>
                  <a:pt x="5680" y="8682"/>
                </a:cubicBezTo>
              </a:path>
              <a:path w="1341" h="696">
                <a:moveTo>
                  <a:pt x="5804" y="8235"/>
                </a:moveTo>
                <a:cubicBezTo>
                  <a:pt x="5804" y="8227"/>
                  <a:pt x="5804" y="8218"/>
                  <a:pt x="5804" y="8210"/>
                </a:cubicBezTo>
                <a:cubicBezTo>
                  <a:pt x="5804" y="8267"/>
                  <a:pt x="5780" y="8301"/>
                  <a:pt x="5730" y="8334"/>
                </a:cubicBezTo>
                <a:cubicBezTo>
                  <a:pt x="5713" y="8342"/>
                  <a:pt x="5697" y="8351"/>
                  <a:pt x="5680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2973240"/>
            <a:ext cx="100080" cy="1620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6524" y="8334"/>
                </a:moveTo>
                <a:cubicBezTo>
                  <a:pt x="6535" y="8302"/>
                  <a:pt x="6563" y="8304"/>
                  <a:pt x="6573" y="8285"/>
                </a:cubicBezTo>
                <a:cubicBezTo>
                  <a:pt x="6573" y="8260"/>
                  <a:pt x="6573" y="8252"/>
                  <a:pt x="6598" y="8260"/>
                </a:cubicBezTo>
                <a:cubicBezTo>
                  <a:pt x="6588" y="8298"/>
                  <a:pt x="6550" y="8349"/>
                  <a:pt x="6524" y="8384"/>
                </a:cubicBezTo>
                <a:cubicBezTo>
                  <a:pt x="6490" y="8430"/>
                  <a:pt x="6455" y="8446"/>
                  <a:pt x="6449" y="8508"/>
                </a:cubicBezTo>
                <a:cubicBezTo>
                  <a:pt x="6444" y="8554"/>
                  <a:pt x="6451" y="8577"/>
                  <a:pt x="6499" y="8582"/>
                </a:cubicBezTo>
                <a:cubicBezTo>
                  <a:pt x="6541" y="8587"/>
                  <a:pt x="6577" y="8558"/>
                  <a:pt x="6623" y="8558"/>
                </a:cubicBezTo>
                <a:cubicBezTo>
                  <a:pt x="6679" y="8558"/>
                  <a:pt x="6684" y="8573"/>
                  <a:pt x="6697" y="8533"/>
                </a:cubicBezTo>
              </a:path>
              <a:path w="274" h="447">
                <a:moveTo>
                  <a:pt x="6722" y="8682"/>
                </a:moveTo>
                <a:cubicBezTo>
                  <a:pt x="6722" y="8690"/>
                  <a:pt x="6722" y="8698"/>
                  <a:pt x="6722" y="8706"/>
                </a:cubicBezTo>
                <a:cubicBezTo>
                  <a:pt x="6664" y="8706"/>
                  <a:pt x="6606" y="8706"/>
                  <a:pt x="6548" y="87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08200" y="2938320"/>
            <a:ext cx="231840" cy="169920"/>
          </a:xfrm>
          <a:custGeom>
            <a:avLst/>
            <a:gdLst/>
            <a:ahLst/>
            <a:rect l="l" t="t" r="r" b="b"/>
            <a:pathLst>
              <a:path w="646" h="472">
                <a:moveTo>
                  <a:pt x="7392" y="8310"/>
                </a:moveTo>
                <a:cubicBezTo>
                  <a:pt x="7355" y="8345"/>
                  <a:pt x="7317" y="8403"/>
                  <a:pt x="7268" y="8409"/>
                </a:cubicBezTo>
                <a:cubicBezTo>
                  <a:pt x="7260" y="8409"/>
                  <a:pt x="7251" y="8409"/>
                  <a:pt x="7243" y="8409"/>
                </a:cubicBezTo>
                <a:cubicBezTo>
                  <a:pt x="7252" y="8374"/>
                  <a:pt x="7288" y="8287"/>
                  <a:pt x="7317" y="8260"/>
                </a:cubicBezTo>
                <a:cubicBezTo>
                  <a:pt x="7364" y="8216"/>
                  <a:pt x="7468" y="8225"/>
                  <a:pt x="7516" y="8260"/>
                </a:cubicBezTo>
                <a:cubicBezTo>
                  <a:pt x="7589" y="8314"/>
                  <a:pt x="7609" y="8399"/>
                  <a:pt x="7615" y="8483"/>
                </a:cubicBezTo>
                <a:cubicBezTo>
                  <a:pt x="7620" y="8551"/>
                  <a:pt x="7551" y="8594"/>
                  <a:pt x="7491" y="8607"/>
                </a:cubicBezTo>
                <a:cubicBezTo>
                  <a:pt x="7442" y="8618"/>
                  <a:pt x="7394" y="8632"/>
                  <a:pt x="7342" y="8632"/>
                </a:cubicBezTo>
              </a:path>
              <a:path w="646" h="472">
                <a:moveTo>
                  <a:pt x="7789" y="8186"/>
                </a:moveTo>
                <a:cubicBezTo>
                  <a:pt x="7725" y="8138"/>
                  <a:pt x="7730" y="8180"/>
                  <a:pt x="7689" y="8235"/>
                </a:cubicBezTo>
                <a:cubicBezTo>
                  <a:pt x="7634" y="8309"/>
                  <a:pt x="7629" y="8347"/>
                  <a:pt x="7665" y="8434"/>
                </a:cubicBezTo>
                <a:cubicBezTo>
                  <a:pt x="7687" y="8487"/>
                  <a:pt x="7732" y="8550"/>
                  <a:pt x="7789" y="8558"/>
                </a:cubicBezTo>
                <a:cubicBezTo>
                  <a:pt x="7861" y="8568"/>
                  <a:pt x="7852" y="8563"/>
                  <a:pt x="7888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6160" y="293832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8880" y="8161"/>
                </a:moveTo>
                <a:cubicBezTo>
                  <a:pt x="8866" y="8215"/>
                  <a:pt x="8823" y="8222"/>
                  <a:pt x="8781" y="8260"/>
                </a:cubicBezTo>
                <a:cubicBezTo>
                  <a:pt x="8738" y="8299"/>
                  <a:pt x="8709" y="8318"/>
                  <a:pt x="8682" y="8359"/>
                </a:cubicBezTo>
                <a:cubicBezTo>
                  <a:pt x="8661" y="8391"/>
                  <a:pt x="8629" y="8456"/>
                  <a:pt x="8682" y="8483"/>
                </a:cubicBezTo>
                <a:cubicBezTo>
                  <a:pt x="8742" y="8513"/>
                  <a:pt x="8850" y="8472"/>
                  <a:pt x="8905" y="8458"/>
                </a:cubicBezTo>
                <a:cubicBezTo>
                  <a:pt x="8913" y="8458"/>
                  <a:pt x="8922" y="8458"/>
                  <a:pt x="8930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02000" y="2803680"/>
            <a:ext cx="546120" cy="214200"/>
          </a:xfrm>
          <a:custGeom>
            <a:avLst/>
            <a:gdLst/>
            <a:ahLst/>
            <a:rect l="l" t="t" r="r" b="b"/>
            <a:pathLst>
              <a:path w="1514" h="596">
                <a:moveTo>
                  <a:pt x="9475" y="8086"/>
                </a:moveTo>
                <a:cubicBezTo>
                  <a:pt x="9435" y="8073"/>
                  <a:pt x="9445" y="8046"/>
                  <a:pt x="9475" y="8012"/>
                </a:cubicBezTo>
                <a:cubicBezTo>
                  <a:pt x="9520" y="7961"/>
                  <a:pt x="9537" y="7932"/>
                  <a:pt x="9599" y="7913"/>
                </a:cubicBezTo>
                <a:cubicBezTo>
                  <a:pt x="9651" y="7897"/>
                  <a:pt x="9669" y="8006"/>
                  <a:pt x="9674" y="8037"/>
                </a:cubicBezTo>
                <a:cubicBezTo>
                  <a:pt x="9685" y="8105"/>
                  <a:pt x="9635" y="8149"/>
                  <a:pt x="9624" y="8210"/>
                </a:cubicBezTo>
                <a:cubicBezTo>
                  <a:pt x="9614" y="8268"/>
                  <a:pt x="9618" y="8336"/>
                  <a:pt x="9649" y="8359"/>
                </a:cubicBezTo>
                <a:cubicBezTo>
                  <a:pt x="9694" y="8393"/>
                  <a:pt x="9743" y="8378"/>
                  <a:pt x="9798" y="8359"/>
                </a:cubicBezTo>
                <a:cubicBezTo>
                  <a:pt x="9844" y="8343"/>
                  <a:pt x="9934" y="8329"/>
                  <a:pt x="9971" y="8310"/>
                </a:cubicBezTo>
                <a:cubicBezTo>
                  <a:pt x="9979" y="8302"/>
                  <a:pt x="9988" y="8293"/>
                  <a:pt x="9996" y="8285"/>
                </a:cubicBezTo>
              </a:path>
              <a:path w="1514" h="596">
                <a:moveTo>
                  <a:pt x="10046" y="8210"/>
                </a:moveTo>
                <a:cubicBezTo>
                  <a:pt x="10046" y="8154"/>
                  <a:pt x="10026" y="8177"/>
                  <a:pt x="10021" y="8136"/>
                </a:cubicBezTo>
                <a:cubicBezTo>
                  <a:pt x="10016" y="8093"/>
                  <a:pt x="10061" y="8066"/>
                  <a:pt x="10096" y="8062"/>
                </a:cubicBezTo>
                <a:cubicBezTo>
                  <a:pt x="10152" y="8056"/>
                  <a:pt x="10176" y="8080"/>
                  <a:pt x="10195" y="8136"/>
                </a:cubicBezTo>
                <a:cubicBezTo>
                  <a:pt x="10206" y="8168"/>
                  <a:pt x="10206" y="8242"/>
                  <a:pt x="10170" y="8260"/>
                </a:cubicBezTo>
                <a:cubicBezTo>
                  <a:pt x="10129" y="8280"/>
                  <a:pt x="10060" y="8241"/>
                  <a:pt x="10021" y="8235"/>
                </a:cubicBezTo>
              </a:path>
              <a:path w="1514" h="596">
                <a:moveTo>
                  <a:pt x="10368" y="8210"/>
                </a:moveTo>
                <a:cubicBezTo>
                  <a:pt x="10411" y="8210"/>
                  <a:pt x="10406" y="8200"/>
                  <a:pt x="10418" y="8235"/>
                </a:cubicBezTo>
              </a:path>
              <a:path w="1514" h="596">
                <a:moveTo>
                  <a:pt x="10691" y="7938"/>
                </a:moveTo>
                <a:cubicBezTo>
                  <a:pt x="10683" y="7921"/>
                  <a:pt x="10674" y="7905"/>
                  <a:pt x="10666" y="7888"/>
                </a:cubicBezTo>
                <a:cubicBezTo>
                  <a:pt x="10657" y="7924"/>
                  <a:pt x="10623" y="7954"/>
                  <a:pt x="10616" y="7987"/>
                </a:cubicBezTo>
                <a:cubicBezTo>
                  <a:pt x="10605" y="8038"/>
                  <a:pt x="10611" y="8082"/>
                  <a:pt x="10666" y="8086"/>
                </a:cubicBezTo>
                <a:cubicBezTo>
                  <a:pt x="10726" y="8090"/>
                  <a:pt x="10770" y="8071"/>
                  <a:pt x="10815" y="8111"/>
                </a:cubicBezTo>
                <a:cubicBezTo>
                  <a:pt x="10854" y="8146"/>
                  <a:pt x="10864" y="8160"/>
                  <a:pt x="10864" y="8210"/>
                </a:cubicBezTo>
                <a:cubicBezTo>
                  <a:pt x="10864" y="8270"/>
                  <a:pt x="10814" y="8282"/>
                  <a:pt x="10765" y="8285"/>
                </a:cubicBezTo>
                <a:cubicBezTo>
                  <a:pt x="10724" y="8285"/>
                  <a:pt x="10716" y="8285"/>
                  <a:pt x="10691" y="8285"/>
                </a:cubicBezTo>
              </a:path>
              <a:path w="1514" h="596">
                <a:moveTo>
                  <a:pt x="10964" y="7888"/>
                </a:moveTo>
                <a:cubicBezTo>
                  <a:pt x="10964" y="7855"/>
                  <a:pt x="10964" y="7822"/>
                  <a:pt x="10964" y="7789"/>
                </a:cubicBezTo>
                <a:cubicBezTo>
                  <a:pt x="10905" y="7803"/>
                  <a:pt x="10863" y="7846"/>
                  <a:pt x="10815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680" y="4500720"/>
            <a:ext cx="447480" cy="206280"/>
          </a:xfrm>
          <a:custGeom>
            <a:avLst/>
            <a:gdLst/>
            <a:ahLst/>
            <a:rect l="l" t="t" r="r" b="b"/>
            <a:pathLst>
              <a:path w="1241" h="571">
                <a:moveTo>
                  <a:pt x="1513" y="12700"/>
                </a:moveTo>
                <a:cubicBezTo>
                  <a:pt x="1542" y="12807"/>
                  <a:pt x="1573" y="12914"/>
                  <a:pt x="1588" y="13022"/>
                </a:cubicBezTo>
                <a:cubicBezTo>
                  <a:pt x="1588" y="13039"/>
                  <a:pt x="1588" y="13055"/>
                  <a:pt x="1588" y="13072"/>
                </a:cubicBezTo>
              </a:path>
              <a:path w="1241" h="571">
                <a:moveTo>
                  <a:pt x="1786" y="12799"/>
                </a:moveTo>
                <a:cubicBezTo>
                  <a:pt x="1797" y="12756"/>
                  <a:pt x="1827" y="12734"/>
                  <a:pt x="1860" y="12700"/>
                </a:cubicBezTo>
                <a:cubicBezTo>
                  <a:pt x="1898" y="12661"/>
                  <a:pt x="1954" y="12621"/>
                  <a:pt x="1960" y="12700"/>
                </a:cubicBezTo>
                <a:cubicBezTo>
                  <a:pt x="1966" y="12785"/>
                  <a:pt x="1902" y="12801"/>
                  <a:pt x="1885" y="12874"/>
                </a:cubicBezTo>
                <a:cubicBezTo>
                  <a:pt x="1878" y="12905"/>
                  <a:pt x="1875" y="12981"/>
                  <a:pt x="1910" y="12998"/>
                </a:cubicBezTo>
                <a:cubicBezTo>
                  <a:pt x="1948" y="13017"/>
                  <a:pt x="2027" y="12994"/>
                  <a:pt x="2059" y="12973"/>
                </a:cubicBezTo>
                <a:cubicBezTo>
                  <a:pt x="2067" y="12965"/>
                  <a:pt x="2076" y="12956"/>
                  <a:pt x="2084" y="12948"/>
                </a:cubicBezTo>
              </a:path>
              <a:path w="1241" h="571">
                <a:moveTo>
                  <a:pt x="2282" y="12849"/>
                </a:moveTo>
                <a:cubicBezTo>
                  <a:pt x="2307" y="12849"/>
                  <a:pt x="2315" y="12849"/>
                  <a:pt x="2307" y="12874"/>
                </a:cubicBezTo>
              </a:path>
              <a:path w="1241" h="571">
                <a:moveTo>
                  <a:pt x="2456" y="12601"/>
                </a:moveTo>
                <a:cubicBezTo>
                  <a:pt x="2456" y="12534"/>
                  <a:pt x="2456" y="12638"/>
                  <a:pt x="2456" y="12650"/>
                </a:cubicBezTo>
                <a:cubicBezTo>
                  <a:pt x="2456" y="12703"/>
                  <a:pt x="2442" y="12733"/>
                  <a:pt x="2480" y="12750"/>
                </a:cubicBezTo>
                <a:cubicBezTo>
                  <a:pt x="2548" y="12781"/>
                  <a:pt x="2615" y="12749"/>
                  <a:pt x="2679" y="12774"/>
                </a:cubicBezTo>
                <a:cubicBezTo>
                  <a:pt x="2724" y="12791"/>
                  <a:pt x="2729" y="12835"/>
                  <a:pt x="2729" y="12874"/>
                </a:cubicBezTo>
                <a:cubicBezTo>
                  <a:pt x="2729" y="12926"/>
                  <a:pt x="2675" y="12945"/>
                  <a:pt x="2629" y="12948"/>
                </a:cubicBezTo>
                <a:cubicBezTo>
                  <a:pt x="2588" y="12948"/>
                  <a:pt x="2580" y="12948"/>
                  <a:pt x="2555" y="12948"/>
                </a:cubicBezTo>
              </a:path>
              <a:path w="1241" h="571">
                <a:moveTo>
                  <a:pt x="2753" y="12551"/>
                </a:moveTo>
                <a:cubicBezTo>
                  <a:pt x="2753" y="12535"/>
                  <a:pt x="2753" y="12518"/>
                  <a:pt x="2753" y="12502"/>
                </a:cubicBezTo>
                <a:cubicBezTo>
                  <a:pt x="2704" y="12514"/>
                  <a:pt x="2653" y="12551"/>
                  <a:pt x="2604" y="12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70000" y="4456080"/>
            <a:ext cx="285840" cy="160200"/>
          </a:xfrm>
          <a:custGeom>
            <a:avLst/>
            <a:gdLst/>
            <a:ahLst/>
            <a:rect l="l" t="t" r="r" b="b"/>
            <a:pathLst>
              <a:path w="795" h="447">
                <a:moveTo>
                  <a:pt x="3324" y="12452"/>
                </a:moveTo>
                <a:cubicBezTo>
                  <a:pt x="3334" y="12436"/>
                  <a:pt x="3403" y="12359"/>
                  <a:pt x="3373" y="12402"/>
                </a:cubicBezTo>
                <a:cubicBezTo>
                  <a:pt x="3335" y="12457"/>
                  <a:pt x="3275" y="12485"/>
                  <a:pt x="3249" y="12551"/>
                </a:cubicBezTo>
                <a:cubicBezTo>
                  <a:pt x="3237" y="12582"/>
                  <a:pt x="3238" y="12682"/>
                  <a:pt x="3274" y="12700"/>
                </a:cubicBezTo>
                <a:cubicBezTo>
                  <a:pt x="3316" y="12721"/>
                  <a:pt x="3369" y="12681"/>
                  <a:pt x="3398" y="12675"/>
                </a:cubicBezTo>
                <a:cubicBezTo>
                  <a:pt x="3440" y="12675"/>
                  <a:pt x="3448" y="12675"/>
                  <a:pt x="3473" y="12675"/>
                </a:cubicBezTo>
              </a:path>
              <a:path w="795" h="447">
                <a:moveTo>
                  <a:pt x="3621" y="12750"/>
                </a:moveTo>
                <a:cubicBezTo>
                  <a:pt x="3621" y="12774"/>
                  <a:pt x="3621" y="12783"/>
                  <a:pt x="3621" y="12799"/>
                </a:cubicBezTo>
                <a:cubicBezTo>
                  <a:pt x="3569" y="12799"/>
                  <a:pt x="3539" y="12811"/>
                  <a:pt x="3497" y="12824"/>
                </a:cubicBezTo>
                <a:cubicBezTo>
                  <a:pt x="3489" y="12824"/>
                  <a:pt x="3481" y="12824"/>
                  <a:pt x="3473" y="12824"/>
                </a:cubicBezTo>
              </a:path>
              <a:path w="795" h="447">
                <a:moveTo>
                  <a:pt x="3870" y="12601"/>
                </a:moveTo>
                <a:cubicBezTo>
                  <a:pt x="3819" y="12572"/>
                  <a:pt x="3808" y="12577"/>
                  <a:pt x="3795" y="12526"/>
                </a:cubicBezTo>
                <a:cubicBezTo>
                  <a:pt x="3845" y="12487"/>
                  <a:pt x="3868" y="12458"/>
                  <a:pt x="3919" y="12502"/>
                </a:cubicBezTo>
                <a:cubicBezTo>
                  <a:pt x="3962" y="12539"/>
                  <a:pt x="3993" y="12589"/>
                  <a:pt x="3969" y="12650"/>
                </a:cubicBezTo>
                <a:cubicBezTo>
                  <a:pt x="3950" y="12699"/>
                  <a:pt x="3861" y="12722"/>
                  <a:pt x="3820" y="12725"/>
                </a:cubicBezTo>
                <a:cubicBezTo>
                  <a:pt x="3812" y="12725"/>
                  <a:pt x="3803" y="12725"/>
                  <a:pt x="3795" y="12725"/>
                </a:cubicBezTo>
              </a:path>
              <a:path w="795" h="447">
                <a:moveTo>
                  <a:pt x="3944" y="12477"/>
                </a:moveTo>
                <a:cubicBezTo>
                  <a:pt x="3944" y="12469"/>
                  <a:pt x="3944" y="12460"/>
                  <a:pt x="3944" y="12452"/>
                </a:cubicBezTo>
                <a:cubicBezTo>
                  <a:pt x="3906" y="12465"/>
                  <a:pt x="3919" y="12481"/>
                  <a:pt x="3919" y="12526"/>
                </a:cubicBezTo>
                <a:cubicBezTo>
                  <a:pt x="3919" y="12600"/>
                  <a:pt x="3955" y="12601"/>
                  <a:pt x="4018" y="12601"/>
                </a:cubicBezTo>
                <a:cubicBezTo>
                  <a:pt x="4026" y="12601"/>
                  <a:pt x="4035" y="12601"/>
                  <a:pt x="4043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6040" y="4357800"/>
            <a:ext cx="98640" cy="142920"/>
          </a:xfrm>
          <a:custGeom>
            <a:avLst/>
            <a:gdLst/>
            <a:ahLst/>
            <a:rect l="l" t="t" r="r" b="b"/>
            <a:pathLst>
              <a:path w="273" h="398">
                <a:moveTo>
                  <a:pt x="4614" y="12154"/>
                </a:moveTo>
                <a:cubicBezTo>
                  <a:pt x="4641" y="12118"/>
                  <a:pt x="4629" y="12116"/>
                  <a:pt x="4663" y="12105"/>
                </a:cubicBezTo>
                <a:cubicBezTo>
                  <a:pt x="4611" y="12143"/>
                  <a:pt x="4597" y="12163"/>
                  <a:pt x="4564" y="12229"/>
                </a:cubicBezTo>
                <a:cubicBezTo>
                  <a:pt x="4530" y="12296"/>
                  <a:pt x="4496" y="12324"/>
                  <a:pt x="4490" y="12402"/>
                </a:cubicBezTo>
                <a:cubicBezTo>
                  <a:pt x="4488" y="12429"/>
                  <a:pt x="4478" y="12491"/>
                  <a:pt x="4514" y="12502"/>
                </a:cubicBezTo>
                <a:cubicBezTo>
                  <a:pt x="4545" y="12512"/>
                  <a:pt x="4661" y="12465"/>
                  <a:pt x="4688" y="12452"/>
                </a:cubicBezTo>
                <a:cubicBezTo>
                  <a:pt x="4716" y="12424"/>
                  <a:pt x="4729" y="12415"/>
                  <a:pt x="4762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28880" y="4224240"/>
            <a:ext cx="517320" cy="249480"/>
          </a:xfrm>
          <a:custGeom>
            <a:avLst/>
            <a:gdLst/>
            <a:ahLst/>
            <a:rect l="l" t="t" r="r" b="b"/>
            <a:pathLst>
              <a:path w="1439" h="695">
                <a:moveTo>
                  <a:pt x="5358" y="12105"/>
                </a:moveTo>
                <a:cubicBezTo>
                  <a:pt x="5358" y="12077"/>
                  <a:pt x="5360" y="12066"/>
                  <a:pt x="5383" y="12055"/>
                </a:cubicBezTo>
                <a:cubicBezTo>
                  <a:pt x="5383" y="12111"/>
                  <a:pt x="5399" y="12152"/>
                  <a:pt x="5407" y="12204"/>
                </a:cubicBezTo>
                <a:cubicBezTo>
                  <a:pt x="5416" y="12263"/>
                  <a:pt x="5419" y="12280"/>
                  <a:pt x="5457" y="12328"/>
                </a:cubicBezTo>
              </a:path>
              <a:path w="1439" h="695">
                <a:moveTo>
                  <a:pt x="5531" y="12030"/>
                </a:moveTo>
                <a:cubicBezTo>
                  <a:pt x="5549" y="11959"/>
                  <a:pt x="5615" y="11959"/>
                  <a:pt x="5680" y="11931"/>
                </a:cubicBezTo>
                <a:cubicBezTo>
                  <a:pt x="5722" y="11913"/>
                  <a:pt x="5807" y="11882"/>
                  <a:pt x="5854" y="11906"/>
                </a:cubicBezTo>
                <a:cubicBezTo>
                  <a:pt x="5913" y="11935"/>
                  <a:pt x="5912" y="11981"/>
                  <a:pt x="5879" y="12030"/>
                </a:cubicBezTo>
                <a:cubicBezTo>
                  <a:pt x="5848" y="12076"/>
                  <a:pt x="5834" y="12123"/>
                  <a:pt x="5829" y="12179"/>
                </a:cubicBezTo>
                <a:cubicBezTo>
                  <a:pt x="5825" y="12222"/>
                  <a:pt x="5867" y="12250"/>
                  <a:pt x="5904" y="12254"/>
                </a:cubicBezTo>
                <a:cubicBezTo>
                  <a:pt x="5930" y="12257"/>
                  <a:pt x="5995" y="12289"/>
                  <a:pt x="5978" y="12328"/>
                </a:cubicBezTo>
                <a:cubicBezTo>
                  <a:pt x="5961" y="12365"/>
                  <a:pt x="5889" y="12415"/>
                  <a:pt x="5854" y="12427"/>
                </a:cubicBezTo>
                <a:cubicBezTo>
                  <a:pt x="5829" y="12427"/>
                  <a:pt x="5821" y="12427"/>
                  <a:pt x="5804" y="12427"/>
                </a:cubicBezTo>
              </a:path>
              <a:path w="1439" h="695">
                <a:moveTo>
                  <a:pt x="6176" y="12303"/>
                </a:moveTo>
                <a:cubicBezTo>
                  <a:pt x="6184" y="12303"/>
                  <a:pt x="6193" y="12303"/>
                  <a:pt x="6201" y="12303"/>
                </a:cubicBezTo>
              </a:path>
              <a:path w="1439" h="695">
                <a:moveTo>
                  <a:pt x="6449" y="11906"/>
                </a:moveTo>
                <a:cubicBezTo>
                  <a:pt x="6449" y="11880"/>
                  <a:pt x="6418" y="11894"/>
                  <a:pt x="6400" y="11931"/>
                </a:cubicBezTo>
                <a:cubicBezTo>
                  <a:pt x="6379" y="11975"/>
                  <a:pt x="6365" y="11989"/>
                  <a:pt x="6400" y="12030"/>
                </a:cubicBezTo>
                <a:cubicBezTo>
                  <a:pt x="6449" y="12086"/>
                  <a:pt x="6475" y="12080"/>
                  <a:pt x="6548" y="12080"/>
                </a:cubicBezTo>
                <a:cubicBezTo>
                  <a:pt x="6602" y="12080"/>
                  <a:pt x="6669" y="12067"/>
                  <a:pt x="6697" y="12129"/>
                </a:cubicBezTo>
                <a:cubicBezTo>
                  <a:pt x="6716" y="12172"/>
                  <a:pt x="6674" y="12203"/>
                  <a:pt x="6648" y="12229"/>
                </a:cubicBezTo>
                <a:cubicBezTo>
                  <a:pt x="6611" y="12267"/>
                  <a:pt x="6575" y="12254"/>
                  <a:pt x="6524" y="12254"/>
                </a:cubicBezTo>
              </a:path>
              <a:path w="1439" h="695">
                <a:moveTo>
                  <a:pt x="6796" y="11757"/>
                </a:moveTo>
                <a:cubicBezTo>
                  <a:pt x="6796" y="11749"/>
                  <a:pt x="6796" y="11741"/>
                  <a:pt x="6796" y="11733"/>
                </a:cubicBezTo>
                <a:cubicBezTo>
                  <a:pt x="6796" y="11788"/>
                  <a:pt x="6781" y="11814"/>
                  <a:pt x="6747" y="118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62680" y="3116160"/>
            <a:ext cx="28440" cy="206640"/>
          </a:xfrm>
          <a:custGeom>
            <a:avLst/>
            <a:gdLst/>
            <a:ahLst/>
            <a:rect l="l" t="t" r="r" b="b"/>
            <a:pathLst>
              <a:path w="76" h="571">
                <a:moveTo>
                  <a:pt x="14089" y="8657"/>
                </a:moveTo>
                <a:cubicBezTo>
                  <a:pt x="14114" y="8657"/>
                  <a:pt x="14122" y="8657"/>
                  <a:pt x="14139" y="8657"/>
                </a:cubicBezTo>
                <a:cubicBezTo>
                  <a:pt x="14139" y="8717"/>
                  <a:pt x="14129" y="8774"/>
                  <a:pt x="14114" y="8830"/>
                </a:cubicBezTo>
                <a:cubicBezTo>
                  <a:pt x="14085" y="8939"/>
                  <a:pt x="14064" y="9013"/>
                  <a:pt x="14064" y="9128"/>
                </a:cubicBezTo>
                <a:cubicBezTo>
                  <a:pt x="14064" y="9178"/>
                  <a:pt x="14064" y="9194"/>
                  <a:pt x="14064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24320" y="3133800"/>
            <a:ext cx="214560" cy="171360"/>
          </a:xfrm>
          <a:custGeom>
            <a:avLst/>
            <a:gdLst/>
            <a:ahLst/>
            <a:rect l="l" t="t" r="r" b="b"/>
            <a:pathLst>
              <a:path w="596" h="473">
                <a:moveTo>
                  <a:pt x="14759" y="8781"/>
                </a:moveTo>
                <a:cubicBezTo>
                  <a:pt x="14759" y="8736"/>
                  <a:pt x="14761" y="8710"/>
                  <a:pt x="14709" y="8706"/>
                </a:cubicBezTo>
                <a:cubicBezTo>
                  <a:pt x="14628" y="8700"/>
                  <a:pt x="14574" y="8742"/>
                  <a:pt x="14536" y="8806"/>
                </a:cubicBezTo>
                <a:cubicBezTo>
                  <a:pt x="14511" y="8849"/>
                  <a:pt x="14482" y="8945"/>
                  <a:pt x="14536" y="8979"/>
                </a:cubicBezTo>
                <a:cubicBezTo>
                  <a:pt x="14591" y="9014"/>
                  <a:pt x="14658" y="8945"/>
                  <a:pt x="14684" y="8905"/>
                </a:cubicBezTo>
                <a:cubicBezTo>
                  <a:pt x="14706" y="8861"/>
                  <a:pt x="14709" y="8849"/>
                  <a:pt x="14734" y="8830"/>
                </a:cubicBezTo>
                <a:cubicBezTo>
                  <a:pt x="14747" y="8895"/>
                  <a:pt x="14776" y="8965"/>
                  <a:pt x="14784" y="9029"/>
                </a:cubicBezTo>
                <a:cubicBezTo>
                  <a:pt x="14793" y="9099"/>
                  <a:pt x="14799" y="9114"/>
                  <a:pt x="14808" y="9178"/>
                </a:cubicBezTo>
              </a:path>
              <a:path w="596" h="473">
                <a:moveTo>
                  <a:pt x="15056" y="9128"/>
                </a:moveTo>
                <a:cubicBezTo>
                  <a:pt x="15084" y="9128"/>
                  <a:pt x="15095" y="9130"/>
                  <a:pt x="15106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27800" y="3106800"/>
            <a:ext cx="142920" cy="19836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15404" y="8806"/>
                </a:moveTo>
                <a:cubicBezTo>
                  <a:pt x="15445" y="8711"/>
                  <a:pt x="15448" y="8741"/>
                  <a:pt x="15404" y="8806"/>
                </a:cubicBezTo>
                <a:cubicBezTo>
                  <a:pt x="15383" y="8837"/>
                  <a:pt x="15357" y="8887"/>
                  <a:pt x="15379" y="8930"/>
                </a:cubicBezTo>
                <a:cubicBezTo>
                  <a:pt x="15405" y="8981"/>
                  <a:pt x="15531" y="8997"/>
                  <a:pt x="15577" y="9004"/>
                </a:cubicBezTo>
                <a:cubicBezTo>
                  <a:pt x="15651" y="9015"/>
                  <a:pt x="15670" y="9025"/>
                  <a:pt x="15677" y="9103"/>
                </a:cubicBezTo>
                <a:cubicBezTo>
                  <a:pt x="15677" y="9128"/>
                  <a:pt x="15677" y="9136"/>
                  <a:pt x="15677" y="9153"/>
                </a:cubicBezTo>
                <a:cubicBezTo>
                  <a:pt x="15624" y="9153"/>
                  <a:pt x="15606" y="9188"/>
                  <a:pt x="15553" y="9178"/>
                </a:cubicBezTo>
                <a:cubicBezTo>
                  <a:pt x="15481" y="9165"/>
                  <a:pt x="15410" y="9123"/>
                  <a:pt x="15354" y="9079"/>
                </a:cubicBezTo>
              </a:path>
              <a:path w="398" h="547">
                <a:moveTo>
                  <a:pt x="15751" y="8632"/>
                </a:moveTo>
                <a:cubicBezTo>
                  <a:pt x="15704" y="8644"/>
                  <a:pt x="15695" y="8687"/>
                  <a:pt x="15652" y="8706"/>
                </a:cubicBezTo>
                <a:cubicBezTo>
                  <a:pt x="15644" y="8706"/>
                  <a:pt x="15635" y="8706"/>
                  <a:pt x="15627" y="87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76920" y="3197160"/>
            <a:ext cx="73080" cy="7164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16247" y="8905"/>
                </a:moveTo>
                <a:cubicBezTo>
                  <a:pt x="16247" y="8897"/>
                  <a:pt x="16247" y="8888"/>
                  <a:pt x="16247" y="8880"/>
                </a:cubicBezTo>
                <a:cubicBezTo>
                  <a:pt x="16213" y="8914"/>
                  <a:pt x="16180" y="8954"/>
                  <a:pt x="16148" y="8979"/>
                </a:cubicBezTo>
                <a:cubicBezTo>
                  <a:pt x="16115" y="9004"/>
                  <a:pt x="16071" y="9021"/>
                  <a:pt x="16049" y="9029"/>
                </a:cubicBezTo>
              </a:path>
              <a:path w="199" h="200">
                <a:moveTo>
                  <a:pt x="16222" y="9079"/>
                </a:moveTo>
                <a:cubicBezTo>
                  <a:pt x="16230" y="9071"/>
                  <a:pt x="16239" y="9062"/>
                  <a:pt x="16247" y="9054"/>
                </a:cubicBezTo>
                <a:cubicBezTo>
                  <a:pt x="16187" y="9006"/>
                  <a:pt x="16150" y="8964"/>
                  <a:pt x="16098" y="89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00840" y="3125880"/>
            <a:ext cx="17280" cy="152280"/>
          </a:xfrm>
          <a:custGeom>
            <a:avLst/>
            <a:gdLst/>
            <a:ahLst/>
            <a:rect l="l" t="t" r="r" b="b"/>
            <a:pathLst>
              <a:path w="50" h="422">
                <a:moveTo>
                  <a:pt x="16694" y="8756"/>
                </a:moveTo>
                <a:cubicBezTo>
                  <a:pt x="16703" y="8744"/>
                  <a:pt x="16739" y="8654"/>
                  <a:pt x="16718" y="8706"/>
                </a:cubicBezTo>
                <a:cubicBezTo>
                  <a:pt x="16686" y="8785"/>
                  <a:pt x="16672" y="8868"/>
                  <a:pt x="16669" y="8954"/>
                </a:cubicBezTo>
                <a:cubicBezTo>
                  <a:pt x="16667" y="9003"/>
                  <a:pt x="16669" y="9053"/>
                  <a:pt x="16669" y="9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34040" y="3125880"/>
            <a:ext cx="125640" cy="152280"/>
          </a:xfrm>
          <a:custGeom>
            <a:avLst/>
            <a:gdLst/>
            <a:ahLst/>
            <a:rect l="l" t="t" r="r" b="b"/>
            <a:pathLst>
              <a:path w="348" h="422">
                <a:moveTo>
                  <a:pt x="17066" y="8830"/>
                </a:moveTo>
                <a:cubicBezTo>
                  <a:pt x="17028" y="8818"/>
                  <a:pt x="17041" y="8801"/>
                  <a:pt x="17041" y="8756"/>
                </a:cubicBezTo>
                <a:cubicBezTo>
                  <a:pt x="17041" y="8714"/>
                  <a:pt x="17076" y="8685"/>
                  <a:pt x="17115" y="8682"/>
                </a:cubicBezTo>
                <a:cubicBezTo>
                  <a:pt x="17141" y="8680"/>
                  <a:pt x="17227" y="8668"/>
                  <a:pt x="17239" y="8706"/>
                </a:cubicBezTo>
                <a:cubicBezTo>
                  <a:pt x="17257" y="8764"/>
                  <a:pt x="17237" y="8835"/>
                  <a:pt x="17214" y="8880"/>
                </a:cubicBezTo>
                <a:cubicBezTo>
                  <a:pt x="17182" y="8942"/>
                  <a:pt x="17146" y="8960"/>
                  <a:pt x="17140" y="9029"/>
                </a:cubicBezTo>
                <a:cubicBezTo>
                  <a:pt x="17136" y="9072"/>
                  <a:pt x="17148" y="9089"/>
                  <a:pt x="17190" y="9103"/>
                </a:cubicBezTo>
                <a:cubicBezTo>
                  <a:pt x="17242" y="9120"/>
                  <a:pt x="17288" y="9083"/>
                  <a:pt x="17338" y="9079"/>
                </a:cubicBezTo>
                <a:cubicBezTo>
                  <a:pt x="17363" y="9079"/>
                  <a:pt x="17371" y="9079"/>
                  <a:pt x="17388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57960" y="3081240"/>
            <a:ext cx="258840" cy="18756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17661" y="9054"/>
                </a:moveTo>
                <a:cubicBezTo>
                  <a:pt x="17661" y="9079"/>
                  <a:pt x="17661" y="9087"/>
                  <a:pt x="17686" y="9079"/>
                </a:cubicBezTo>
              </a:path>
              <a:path w="720" h="522">
                <a:moveTo>
                  <a:pt x="17983" y="8657"/>
                </a:moveTo>
                <a:cubicBezTo>
                  <a:pt x="17991" y="8649"/>
                  <a:pt x="18000" y="8640"/>
                  <a:pt x="18008" y="8632"/>
                </a:cubicBezTo>
                <a:cubicBezTo>
                  <a:pt x="17984" y="8663"/>
                  <a:pt x="17944" y="8714"/>
                  <a:pt x="17934" y="8756"/>
                </a:cubicBezTo>
                <a:cubicBezTo>
                  <a:pt x="17919" y="8822"/>
                  <a:pt x="17946" y="8859"/>
                  <a:pt x="18008" y="8880"/>
                </a:cubicBezTo>
                <a:cubicBezTo>
                  <a:pt x="18047" y="8893"/>
                  <a:pt x="18161" y="8913"/>
                  <a:pt x="18182" y="8954"/>
                </a:cubicBezTo>
                <a:cubicBezTo>
                  <a:pt x="18199" y="8988"/>
                  <a:pt x="18176" y="9032"/>
                  <a:pt x="18157" y="9054"/>
                </a:cubicBezTo>
                <a:cubicBezTo>
                  <a:pt x="18130" y="9085"/>
                  <a:pt x="18050" y="9091"/>
                  <a:pt x="18008" y="9079"/>
                </a:cubicBezTo>
                <a:cubicBezTo>
                  <a:pt x="17960" y="9055"/>
                  <a:pt x="17946" y="9046"/>
                  <a:pt x="17909" y="9054"/>
                </a:cubicBezTo>
              </a:path>
              <a:path w="720" h="522">
                <a:moveTo>
                  <a:pt x="18355" y="8582"/>
                </a:moveTo>
                <a:cubicBezTo>
                  <a:pt x="18363" y="8574"/>
                  <a:pt x="18372" y="8566"/>
                  <a:pt x="18380" y="8558"/>
                </a:cubicBezTo>
                <a:cubicBezTo>
                  <a:pt x="18311" y="8592"/>
                  <a:pt x="18251" y="8606"/>
                  <a:pt x="18182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2800" y="3581280"/>
            <a:ext cx="1054080" cy="223920"/>
          </a:xfrm>
          <a:custGeom>
            <a:avLst/>
            <a:gdLst/>
            <a:ahLst/>
            <a:rect l="l" t="t" r="r" b="b"/>
            <a:pathLst>
              <a:path w="2928" h="621">
                <a:moveTo>
                  <a:pt x="15081" y="10096"/>
                </a:moveTo>
                <a:cubicBezTo>
                  <a:pt x="15059" y="10112"/>
                  <a:pt x="15012" y="10136"/>
                  <a:pt x="15007" y="10145"/>
                </a:cubicBezTo>
                <a:cubicBezTo>
                  <a:pt x="15007" y="10173"/>
                  <a:pt x="15005" y="10179"/>
                  <a:pt x="14982" y="10145"/>
                </a:cubicBezTo>
                <a:cubicBezTo>
                  <a:pt x="14992" y="10107"/>
                  <a:pt x="15020" y="10047"/>
                  <a:pt x="15056" y="10021"/>
                </a:cubicBezTo>
                <a:cubicBezTo>
                  <a:pt x="15077" y="10006"/>
                  <a:pt x="15180" y="9971"/>
                  <a:pt x="15205" y="9996"/>
                </a:cubicBezTo>
                <a:cubicBezTo>
                  <a:pt x="15256" y="10048"/>
                  <a:pt x="15269" y="10153"/>
                  <a:pt x="15255" y="10220"/>
                </a:cubicBezTo>
                <a:cubicBezTo>
                  <a:pt x="15232" y="10328"/>
                  <a:pt x="15180" y="10361"/>
                  <a:pt x="15131" y="10443"/>
                </a:cubicBezTo>
                <a:cubicBezTo>
                  <a:pt x="15103" y="10490"/>
                  <a:pt x="15106" y="10516"/>
                  <a:pt x="15106" y="10567"/>
                </a:cubicBezTo>
                <a:cubicBezTo>
                  <a:pt x="15163" y="10567"/>
                  <a:pt x="15202" y="10546"/>
                  <a:pt x="15255" y="10542"/>
                </a:cubicBezTo>
                <a:cubicBezTo>
                  <a:pt x="15321" y="10538"/>
                  <a:pt x="15376" y="10556"/>
                  <a:pt x="15429" y="10517"/>
                </a:cubicBezTo>
              </a:path>
              <a:path w="2928" h="621">
                <a:moveTo>
                  <a:pt x="15627" y="10096"/>
                </a:moveTo>
                <a:cubicBezTo>
                  <a:pt x="15635" y="10088"/>
                  <a:pt x="15644" y="10079"/>
                  <a:pt x="15652" y="10071"/>
                </a:cubicBezTo>
                <a:cubicBezTo>
                  <a:pt x="15652" y="10124"/>
                  <a:pt x="15630" y="10140"/>
                  <a:pt x="15627" y="10195"/>
                </a:cubicBezTo>
                <a:cubicBezTo>
                  <a:pt x="15624" y="10244"/>
                  <a:pt x="15578" y="10321"/>
                  <a:pt x="15602" y="10368"/>
                </a:cubicBezTo>
                <a:cubicBezTo>
                  <a:pt x="15630" y="10423"/>
                  <a:pt x="15674" y="10418"/>
                  <a:pt x="15726" y="10418"/>
                </a:cubicBezTo>
                <a:cubicBezTo>
                  <a:pt x="15792" y="10418"/>
                  <a:pt x="15836" y="10398"/>
                  <a:pt x="15900" y="10393"/>
                </a:cubicBezTo>
                <a:cubicBezTo>
                  <a:pt x="15924" y="10391"/>
                  <a:pt x="15950" y="10393"/>
                  <a:pt x="15974" y="10393"/>
                </a:cubicBezTo>
              </a:path>
              <a:path w="2928" h="621">
                <a:moveTo>
                  <a:pt x="15850" y="10244"/>
                </a:moveTo>
                <a:cubicBezTo>
                  <a:pt x="15801" y="10276"/>
                  <a:pt x="15842" y="10329"/>
                  <a:pt x="15825" y="10393"/>
                </a:cubicBezTo>
                <a:cubicBezTo>
                  <a:pt x="15810" y="10448"/>
                  <a:pt x="15801" y="10484"/>
                  <a:pt x="15801" y="10542"/>
                </a:cubicBezTo>
              </a:path>
              <a:path w="2928" h="621">
                <a:moveTo>
                  <a:pt x="16173" y="10071"/>
                </a:moveTo>
                <a:cubicBezTo>
                  <a:pt x="16148" y="10071"/>
                  <a:pt x="16140" y="10071"/>
                  <a:pt x="16123" y="10071"/>
                </a:cubicBezTo>
                <a:cubicBezTo>
                  <a:pt x="16168" y="10026"/>
                  <a:pt x="16209" y="10011"/>
                  <a:pt x="16272" y="9996"/>
                </a:cubicBezTo>
                <a:cubicBezTo>
                  <a:pt x="16302" y="9989"/>
                  <a:pt x="16340" y="9996"/>
                  <a:pt x="16371" y="9996"/>
                </a:cubicBezTo>
                <a:cubicBezTo>
                  <a:pt x="16371" y="10053"/>
                  <a:pt x="16384" y="10102"/>
                  <a:pt x="16346" y="10145"/>
                </a:cubicBezTo>
                <a:cubicBezTo>
                  <a:pt x="16313" y="10182"/>
                  <a:pt x="16244" y="10196"/>
                  <a:pt x="16222" y="10244"/>
                </a:cubicBezTo>
                <a:cubicBezTo>
                  <a:pt x="16222" y="10252"/>
                  <a:pt x="16222" y="10261"/>
                  <a:pt x="16222" y="10269"/>
                </a:cubicBezTo>
                <a:cubicBezTo>
                  <a:pt x="16250" y="10312"/>
                  <a:pt x="16295" y="10293"/>
                  <a:pt x="16346" y="10319"/>
                </a:cubicBezTo>
                <a:cubicBezTo>
                  <a:pt x="16373" y="10333"/>
                  <a:pt x="16431" y="10360"/>
                  <a:pt x="16446" y="10393"/>
                </a:cubicBezTo>
                <a:cubicBezTo>
                  <a:pt x="16446" y="10418"/>
                  <a:pt x="16446" y="10426"/>
                  <a:pt x="16446" y="10443"/>
                </a:cubicBezTo>
                <a:cubicBezTo>
                  <a:pt x="16383" y="10443"/>
                  <a:pt x="16214" y="10468"/>
                  <a:pt x="16197" y="10418"/>
                </a:cubicBezTo>
              </a:path>
              <a:path w="2928" h="621">
                <a:moveTo>
                  <a:pt x="16669" y="10492"/>
                </a:moveTo>
                <a:cubicBezTo>
                  <a:pt x="16691" y="10514"/>
                  <a:pt x="16696" y="10523"/>
                  <a:pt x="16718" y="10517"/>
                </a:cubicBezTo>
              </a:path>
              <a:path w="2928" h="621">
                <a:moveTo>
                  <a:pt x="16942" y="10046"/>
                </a:moveTo>
                <a:cubicBezTo>
                  <a:pt x="16942" y="10071"/>
                  <a:pt x="16942" y="10079"/>
                  <a:pt x="16942" y="10096"/>
                </a:cubicBezTo>
                <a:cubicBezTo>
                  <a:pt x="16992" y="10096"/>
                  <a:pt x="17000" y="10095"/>
                  <a:pt x="17041" y="10071"/>
                </a:cubicBezTo>
                <a:cubicBezTo>
                  <a:pt x="17099" y="10038"/>
                  <a:pt x="17150" y="10046"/>
                  <a:pt x="17214" y="10046"/>
                </a:cubicBezTo>
                <a:cubicBezTo>
                  <a:pt x="17222" y="10046"/>
                  <a:pt x="17231" y="10046"/>
                  <a:pt x="17239" y="10046"/>
                </a:cubicBezTo>
                <a:cubicBezTo>
                  <a:pt x="17239" y="10115"/>
                  <a:pt x="17236" y="10156"/>
                  <a:pt x="17214" y="10220"/>
                </a:cubicBezTo>
                <a:cubicBezTo>
                  <a:pt x="17189" y="10292"/>
                  <a:pt x="17141" y="10353"/>
                  <a:pt x="17115" y="10418"/>
                </a:cubicBezTo>
                <a:cubicBezTo>
                  <a:pt x="17115" y="10426"/>
                  <a:pt x="17115" y="10435"/>
                  <a:pt x="17115" y="10443"/>
                </a:cubicBezTo>
              </a:path>
              <a:path w="2928" h="621">
                <a:moveTo>
                  <a:pt x="17611" y="9996"/>
                </a:moveTo>
                <a:cubicBezTo>
                  <a:pt x="17634" y="9973"/>
                  <a:pt x="17638" y="9965"/>
                  <a:pt x="17661" y="9971"/>
                </a:cubicBezTo>
                <a:cubicBezTo>
                  <a:pt x="17649" y="10018"/>
                  <a:pt x="17597" y="10050"/>
                  <a:pt x="17587" y="10096"/>
                </a:cubicBezTo>
                <a:cubicBezTo>
                  <a:pt x="17573" y="10161"/>
                  <a:pt x="17589" y="10175"/>
                  <a:pt x="17636" y="10195"/>
                </a:cubicBezTo>
                <a:cubicBezTo>
                  <a:pt x="17701" y="10223"/>
                  <a:pt x="17751" y="10225"/>
                  <a:pt x="17810" y="10269"/>
                </a:cubicBezTo>
                <a:cubicBezTo>
                  <a:pt x="17844" y="10294"/>
                  <a:pt x="17886" y="10312"/>
                  <a:pt x="17859" y="10368"/>
                </a:cubicBezTo>
                <a:cubicBezTo>
                  <a:pt x="17839" y="10409"/>
                  <a:pt x="17771" y="10393"/>
                  <a:pt x="17735" y="10393"/>
                </a:cubicBezTo>
                <a:cubicBezTo>
                  <a:pt x="17667" y="10393"/>
                  <a:pt x="17626" y="10392"/>
                  <a:pt x="17562" y="10368"/>
                </a:cubicBezTo>
              </a:path>
              <a:path w="2928" h="621">
                <a:moveTo>
                  <a:pt x="17884" y="9971"/>
                </a:moveTo>
                <a:cubicBezTo>
                  <a:pt x="17938" y="9919"/>
                  <a:pt x="17841" y="9967"/>
                  <a:pt x="17810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02280" y="3089160"/>
            <a:ext cx="662040" cy="679680"/>
          </a:xfrm>
          <a:custGeom>
            <a:avLst/>
            <a:gdLst/>
            <a:ahLst/>
            <a:rect l="l" t="t" r="r" b="b"/>
            <a:pathLst>
              <a:path w="1837" h="1887">
                <a:moveTo>
                  <a:pt x="20315" y="8806"/>
                </a:moveTo>
                <a:cubicBezTo>
                  <a:pt x="20293" y="8828"/>
                  <a:pt x="20284" y="8839"/>
                  <a:pt x="20290" y="8806"/>
                </a:cubicBezTo>
                <a:cubicBezTo>
                  <a:pt x="20295" y="8792"/>
                  <a:pt x="20337" y="8739"/>
                  <a:pt x="20365" y="8731"/>
                </a:cubicBezTo>
                <a:cubicBezTo>
                  <a:pt x="20430" y="8712"/>
                  <a:pt x="20492" y="8738"/>
                  <a:pt x="20538" y="8781"/>
                </a:cubicBezTo>
                <a:cubicBezTo>
                  <a:pt x="20582" y="8821"/>
                  <a:pt x="20628" y="8914"/>
                  <a:pt x="20613" y="8979"/>
                </a:cubicBezTo>
                <a:cubicBezTo>
                  <a:pt x="20606" y="9009"/>
                  <a:pt x="20547" y="9094"/>
                  <a:pt x="20513" y="9103"/>
                </a:cubicBezTo>
                <a:cubicBezTo>
                  <a:pt x="20473" y="9114"/>
                  <a:pt x="20407" y="9103"/>
                  <a:pt x="20365" y="9103"/>
                </a:cubicBezTo>
              </a:path>
              <a:path w="1837" h="1887">
                <a:moveTo>
                  <a:pt x="20811" y="8756"/>
                </a:moveTo>
                <a:cubicBezTo>
                  <a:pt x="20828" y="8748"/>
                  <a:pt x="20844" y="8739"/>
                  <a:pt x="20861" y="8731"/>
                </a:cubicBezTo>
                <a:cubicBezTo>
                  <a:pt x="20816" y="8776"/>
                  <a:pt x="20777" y="8810"/>
                  <a:pt x="20737" y="8855"/>
                </a:cubicBezTo>
                <a:cubicBezTo>
                  <a:pt x="20694" y="8904"/>
                  <a:pt x="20663" y="8957"/>
                  <a:pt x="20687" y="9029"/>
                </a:cubicBezTo>
                <a:cubicBezTo>
                  <a:pt x="20716" y="9116"/>
                  <a:pt x="20786" y="9103"/>
                  <a:pt x="20861" y="9103"/>
                </a:cubicBezTo>
                <a:cubicBezTo>
                  <a:pt x="20877" y="9103"/>
                  <a:pt x="20894" y="9103"/>
                  <a:pt x="20910" y="9103"/>
                </a:cubicBezTo>
              </a:path>
              <a:path w="1837" h="1887">
                <a:moveTo>
                  <a:pt x="20315" y="10071"/>
                </a:moveTo>
                <a:cubicBezTo>
                  <a:pt x="20320" y="10055"/>
                  <a:pt x="20338" y="10010"/>
                  <a:pt x="20365" y="9996"/>
                </a:cubicBezTo>
                <a:cubicBezTo>
                  <a:pt x="20404" y="9976"/>
                  <a:pt x="20481" y="9977"/>
                  <a:pt x="20513" y="9996"/>
                </a:cubicBezTo>
                <a:cubicBezTo>
                  <a:pt x="20555" y="10021"/>
                  <a:pt x="20585" y="10074"/>
                  <a:pt x="20588" y="10120"/>
                </a:cubicBezTo>
                <a:cubicBezTo>
                  <a:pt x="20593" y="10194"/>
                  <a:pt x="20588" y="10238"/>
                  <a:pt x="20538" y="10294"/>
                </a:cubicBezTo>
                <a:cubicBezTo>
                  <a:pt x="20500" y="10336"/>
                  <a:pt x="20442" y="10319"/>
                  <a:pt x="20389" y="10319"/>
                </a:cubicBezTo>
                <a:cubicBezTo>
                  <a:pt x="20348" y="10319"/>
                  <a:pt x="20340" y="10319"/>
                  <a:pt x="20315" y="10319"/>
                </a:cubicBezTo>
              </a:path>
              <a:path w="1837" h="1887">
                <a:moveTo>
                  <a:pt x="20762" y="9996"/>
                </a:moveTo>
                <a:cubicBezTo>
                  <a:pt x="20827" y="9928"/>
                  <a:pt x="20719" y="10062"/>
                  <a:pt x="20712" y="10071"/>
                </a:cubicBezTo>
                <a:cubicBezTo>
                  <a:pt x="20681" y="10112"/>
                  <a:pt x="20630" y="10212"/>
                  <a:pt x="20662" y="10269"/>
                </a:cubicBezTo>
                <a:cubicBezTo>
                  <a:pt x="20699" y="10335"/>
                  <a:pt x="20767" y="10365"/>
                  <a:pt x="20836" y="10368"/>
                </a:cubicBezTo>
                <a:cubicBezTo>
                  <a:pt x="20913" y="10371"/>
                  <a:pt x="20944" y="10352"/>
                  <a:pt x="21010" y="10319"/>
                </a:cubicBezTo>
              </a:path>
              <a:path w="1837" h="1887">
                <a:moveTo>
                  <a:pt x="19571" y="8657"/>
                </a:moveTo>
                <a:cubicBezTo>
                  <a:pt x="19600" y="8628"/>
                  <a:pt x="19612" y="8619"/>
                  <a:pt x="19621" y="8582"/>
                </a:cubicBezTo>
                <a:cubicBezTo>
                  <a:pt x="19572" y="8594"/>
                  <a:pt x="19524" y="8609"/>
                  <a:pt x="19472" y="8632"/>
                </a:cubicBezTo>
                <a:cubicBezTo>
                  <a:pt x="19428" y="8652"/>
                  <a:pt x="19345" y="8681"/>
                  <a:pt x="19323" y="8731"/>
                </a:cubicBezTo>
                <a:cubicBezTo>
                  <a:pt x="19307" y="8767"/>
                  <a:pt x="19327" y="8807"/>
                  <a:pt x="19348" y="8830"/>
                </a:cubicBezTo>
                <a:cubicBezTo>
                  <a:pt x="19387" y="8874"/>
                  <a:pt x="19467" y="8866"/>
                  <a:pt x="19521" y="8880"/>
                </a:cubicBezTo>
                <a:cubicBezTo>
                  <a:pt x="19596" y="8900"/>
                  <a:pt x="19644" y="8905"/>
                  <a:pt x="19720" y="8905"/>
                </a:cubicBezTo>
                <a:cubicBezTo>
                  <a:pt x="19728" y="8905"/>
                  <a:pt x="19737" y="8905"/>
                  <a:pt x="19745" y="8905"/>
                </a:cubicBezTo>
              </a:path>
              <a:path w="1837" h="1887">
                <a:moveTo>
                  <a:pt x="19372" y="10145"/>
                </a:moveTo>
                <a:cubicBezTo>
                  <a:pt x="19401" y="10123"/>
                  <a:pt x="19509" y="10120"/>
                  <a:pt x="19472" y="10120"/>
                </a:cubicBezTo>
                <a:cubicBezTo>
                  <a:pt x="19407" y="10120"/>
                  <a:pt x="19423" y="10071"/>
                  <a:pt x="19348" y="10120"/>
                </a:cubicBezTo>
                <a:cubicBezTo>
                  <a:pt x="19282" y="10164"/>
                  <a:pt x="19247" y="10207"/>
                  <a:pt x="19199" y="10269"/>
                </a:cubicBezTo>
                <a:cubicBezTo>
                  <a:pt x="19171" y="10305"/>
                  <a:pt x="19152" y="10360"/>
                  <a:pt x="19199" y="10393"/>
                </a:cubicBezTo>
                <a:cubicBezTo>
                  <a:pt x="19278" y="10448"/>
                  <a:pt x="19384" y="10403"/>
                  <a:pt x="19472" y="10418"/>
                </a:cubicBezTo>
                <a:cubicBezTo>
                  <a:pt x="19548" y="10431"/>
                  <a:pt x="19622" y="10453"/>
                  <a:pt x="19695" y="104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pper and Lower B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I will run the SP marathon. The distance I will run is 42km to the nearest km. I will run at 10km per hour to the nearest km/hr. What is the longest amount of time it would take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9920" y="3348000"/>
            <a:ext cx="482400" cy="260280"/>
          </a:xfrm>
          <a:custGeom>
            <a:avLst/>
            <a:gdLst/>
            <a:ahLst/>
            <a:rect l="l" t="t" r="r" b="b"/>
            <a:pathLst>
              <a:path w="1340" h="720">
                <a:moveTo>
                  <a:pt x="3820" y="9823"/>
                </a:moveTo>
                <a:cubicBezTo>
                  <a:pt x="3873" y="9761"/>
                  <a:pt x="3870" y="9771"/>
                  <a:pt x="3870" y="9699"/>
                </a:cubicBezTo>
                <a:cubicBezTo>
                  <a:pt x="3816" y="9659"/>
                  <a:pt x="3789" y="9688"/>
                  <a:pt x="3746" y="9748"/>
                </a:cubicBezTo>
                <a:cubicBezTo>
                  <a:pt x="3684" y="9836"/>
                  <a:pt x="3723" y="9925"/>
                  <a:pt x="3770" y="9996"/>
                </a:cubicBezTo>
                <a:cubicBezTo>
                  <a:pt x="3870" y="9976"/>
                  <a:pt x="3906" y="9899"/>
                  <a:pt x="3919" y="9798"/>
                </a:cubicBezTo>
                <a:cubicBezTo>
                  <a:pt x="3935" y="9670"/>
                  <a:pt x="3959" y="9409"/>
                  <a:pt x="3894" y="9302"/>
                </a:cubicBezTo>
                <a:cubicBezTo>
                  <a:pt x="3894" y="9412"/>
                  <a:pt x="3887" y="9517"/>
                  <a:pt x="3919" y="9624"/>
                </a:cubicBezTo>
                <a:cubicBezTo>
                  <a:pt x="3961" y="9766"/>
                  <a:pt x="4015" y="9895"/>
                  <a:pt x="4093" y="10021"/>
                </a:cubicBezTo>
              </a:path>
              <a:path w="1340" h="720">
                <a:moveTo>
                  <a:pt x="4118" y="9773"/>
                </a:moveTo>
                <a:cubicBezTo>
                  <a:pt x="4118" y="9748"/>
                  <a:pt x="4118" y="9724"/>
                  <a:pt x="4118" y="9699"/>
                </a:cubicBezTo>
                <a:cubicBezTo>
                  <a:pt x="4174" y="9713"/>
                  <a:pt x="4202" y="9777"/>
                  <a:pt x="4242" y="9823"/>
                </a:cubicBezTo>
              </a:path>
              <a:path w="1340" h="720">
                <a:moveTo>
                  <a:pt x="4167" y="9674"/>
                </a:moveTo>
                <a:cubicBezTo>
                  <a:pt x="4142" y="9591"/>
                  <a:pt x="4126" y="9604"/>
                  <a:pt x="4167" y="9550"/>
                </a:cubicBezTo>
              </a:path>
              <a:path w="1340" h="720">
                <a:moveTo>
                  <a:pt x="4539" y="9575"/>
                </a:moveTo>
                <a:cubicBezTo>
                  <a:pt x="4539" y="9533"/>
                  <a:pt x="4547" y="9517"/>
                  <a:pt x="4514" y="9525"/>
                </a:cubicBezTo>
                <a:cubicBezTo>
                  <a:pt x="4514" y="9598"/>
                  <a:pt x="4497" y="9650"/>
                  <a:pt x="4564" y="9699"/>
                </a:cubicBezTo>
                <a:cubicBezTo>
                  <a:pt x="4619" y="9739"/>
                  <a:pt x="4687" y="9751"/>
                  <a:pt x="4738" y="9798"/>
                </a:cubicBezTo>
                <a:cubicBezTo>
                  <a:pt x="4760" y="9820"/>
                  <a:pt x="4768" y="9825"/>
                  <a:pt x="4762" y="9847"/>
                </a:cubicBezTo>
                <a:cubicBezTo>
                  <a:pt x="4707" y="9858"/>
                  <a:pt x="4650" y="9889"/>
                  <a:pt x="4589" y="9872"/>
                </a:cubicBezTo>
                <a:cubicBezTo>
                  <a:pt x="4540" y="9858"/>
                  <a:pt x="4486" y="9821"/>
                  <a:pt x="4440" y="9798"/>
                </a:cubicBezTo>
              </a:path>
              <a:path w="1340" h="720">
                <a:moveTo>
                  <a:pt x="4787" y="9426"/>
                </a:moveTo>
                <a:cubicBezTo>
                  <a:pt x="4779" y="9401"/>
                  <a:pt x="4770" y="9376"/>
                  <a:pt x="4762" y="9351"/>
                </a:cubicBezTo>
                <a:cubicBezTo>
                  <a:pt x="4762" y="9456"/>
                  <a:pt x="4763" y="9546"/>
                  <a:pt x="4787" y="9649"/>
                </a:cubicBezTo>
                <a:cubicBezTo>
                  <a:pt x="4811" y="9744"/>
                  <a:pt x="4816" y="9775"/>
                  <a:pt x="4887" y="9798"/>
                </a:cubicBezTo>
              </a:path>
              <a:path w="1340" h="720">
                <a:moveTo>
                  <a:pt x="5060" y="9723"/>
                </a:moveTo>
                <a:cubicBezTo>
                  <a:pt x="5000" y="9663"/>
                  <a:pt x="4988" y="9624"/>
                  <a:pt x="4911" y="9624"/>
                </a:cubicBezTo>
                <a:cubicBezTo>
                  <a:pt x="4842" y="9624"/>
                  <a:pt x="4777" y="9652"/>
                  <a:pt x="4713" y="9674"/>
                </a:cubicBezTo>
                <a:cubicBezTo>
                  <a:pt x="4688" y="9682"/>
                  <a:pt x="4663" y="9691"/>
                  <a:pt x="4638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4071960"/>
            <a:ext cx="285840" cy="2779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3820" y="11435"/>
                </a:moveTo>
                <a:cubicBezTo>
                  <a:pt x="3843" y="11412"/>
                  <a:pt x="3851" y="11408"/>
                  <a:pt x="3845" y="11385"/>
                </a:cubicBezTo>
                <a:cubicBezTo>
                  <a:pt x="3780" y="11385"/>
                  <a:pt x="3749" y="11395"/>
                  <a:pt x="3696" y="11435"/>
                </a:cubicBezTo>
                <a:cubicBezTo>
                  <a:pt x="3665" y="11458"/>
                  <a:pt x="3654" y="11476"/>
                  <a:pt x="3646" y="11509"/>
                </a:cubicBezTo>
                <a:cubicBezTo>
                  <a:pt x="3702" y="11542"/>
                  <a:pt x="3774" y="11555"/>
                  <a:pt x="3845" y="11559"/>
                </a:cubicBezTo>
                <a:cubicBezTo>
                  <a:pt x="3902" y="11562"/>
                  <a:pt x="3962" y="11568"/>
                  <a:pt x="3969" y="11633"/>
                </a:cubicBezTo>
                <a:cubicBezTo>
                  <a:pt x="3976" y="11699"/>
                  <a:pt x="3891" y="11705"/>
                  <a:pt x="3845" y="11708"/>
                </a:cubicBezTo>
                <a:cubicBezTo>
                  <a:pt x="3797" y="11711"/>
                  <a:pt x="3766" y="11724"/>
                  <a:pt x="3721" y="11733"/>
                </a:cubicBezTo>
              </a:path>
              <a:path w="795" h="770">
                <a:moveTo>
                  <a:pt x="4217" y="11509"/>
                </a:moveTo>
                <a:cubicBezTo>
                  <a:pt x="4283" y="11494"/>
                  <a:pt x="4288" y="11581"/>
                  <a:pt x="4291" y="11658"/>
                </a:cubicBezTo>
                <a:cubicBezTo>
                  <a:pt x="4295" y="11759"/>
                  <a:pt x="4297" y="11882"/>
                  <a:pt x="4316" y="11981"/>
                </a:cubicBezTo>
                <a:cubicBezTo>
                  <a:pt x="4335" y="12038"/>
                  <a:pt x="4344" y="12045"/>
                  <a:pt x="4341" y="12080"/>
                </a:cubicBezTo>
              </a:path>
              <a:path w="795" h="770">
                <a:moveTo>
                  <a:pt x="4192" y="11485"/>
                </a:moveTo>
                <a:cubicBezTo>
                  <a:pt x="4156" y="11401"/>
                  <a:pt x="4153" y="11412"/>
                  <a:pt x="4217" y="11361"/>
                </a:cubicBezTo>
                <a:cubicBezTo>
                  <a:pt x="4274" y="11315"/>
                  <a:pt x="4321" y="11286"/>
                  <a:pt x="4390" y="11336"/>
                </a:cubicBezTo>
                <a:cubicBezTo>
                  <a:pt x="4460" y="11386"/>
                  <a:pt x="4459" y="11528"/>
                  <a:pt x="4440" y="11609"/>
                </a:cubicBezTo>
                <a:cubicBezTo>
                  <a:pt x="4425" y="11672"/>
                  <a:pt x="4355" y="11723"/>
                  <a:pt x="4291" y="11708"/>
                </a:cubicBezTo>
                <a:cubicBezTo>
                  <a:pt x="4242" y="11683"/>
                  <a:pt x="4225" y="11674"/>
                  <a:pt x="4192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3367080"/>
            <a:ext cx="1785960" cy="258840"/>
          </a:xfrm>
          <a:custGeom>
            <a:avLst/>
            <a:gdLst/>
            <a:ahLst/>
            <a:rect l="l" t="t" r="r" b="b"/>
            <a:pathLst>
              <a:path w="4962" h="721">
                <a:moveTo>
                  <a:pt x="6697" y="9649"/>
                </a:moveTo>
                <a:cubicBezTo>
                  <a:pt x="6697" y="9601"/>
                  <a:pt x="6680" y="9624"/>
                  <a:pt x="6672" y="9649"/>
                </a:cubicBezTo>
              </a:path>
              <a:path w="4962" h="721">
                <a:moveTo>
                  <a:pt x="6697" y="9649"/>
                </a:moveTo>
                <a:cubicBezTo>
                  <a:pt x="6655" y="9593"/>
                  <a:pt x="6679" y="9604"/>
                  <a:pt x="6697" y="9550"/>
                </a:cubicBezTo>
                <a:cubicBezTo>
                  <a:pt x="6716" y="9494"/>
                  <a:pt x="6680" y="9615"/>
                  <a:pt x="6672" y="9674"/>
                </a:cubicBezTo>
                <a:cubicBezTo>
                  <a:pt x="6661" y="9750"/>
                  <a:pt x="6628" y="9844"/>
                  <a:pt x="6648" y="9922"/>
                </a:cubicBezTo>
                <a:cubicBezTo>
                  <a:pt x="6664" y="9983"/>
                  <a:pt x="6710" y="10014"/>
                  <a:pt x="6772" y="9996"/>
                </a:cubicBezTo>
                <a:cubicBezTo>
                  <a:pt x="6840" y="9976"/>
                  <a:pt x="6936" y="9935"/>
                  <a:pt x="6995" y="9897"/>
                </a:cubicBezTo>
                <a:cubicBezTo>
                  <a:pt x="7028" y="9876"/>
                  <a:pt x="7129" y="9861"/>
                  <a:pt x="7144" y="9847"/>
                </a:cubicBezTo>
                <a:cubicBezTo>
                  <a:pt x="7162" y="9830"/>
                  <a:pt x="7175" y="9823"/>
                  <a:pt x="7144" y="9823"/>
                </a:cubicBezTo>
              </a:path>
              <a:path w="4962" h="721">
                <a:moveTo>
                  <a:pt x="6896" y="9748"/>
                </a:moveTo>
                <a:cubicBezTo>
                  <a:pt x="6865" y="9768"/>
                  <a:pt x="6859" y="9842"/>
                  <a:pt x="6871" y="9897"/>
                </a:cubicBezTo>
                <a:cubicBezTo>
                  <a:pt x="6885" y="9960"/>
                  <a:pt x="6911" y="10019"/>
                  <a:pt x="6945" y="10071"/>
                </a:cubicBezTo>
              </a:path>
              <a:path w="4962" h="721">
                <a:moveTo>
                  <a:pt x="7317" y="9500"/>
                </a:moveTo>
                <a:cubicBezTo>
                  <a:pt x="7332" y="9546"/>
                  <a:pt x="7361" y="9525"/>
                  <a:pt x="7367" y="9599"/>
                </a:cubicBezTo>
                <a:cubicBezTo>
                  <a:pt x="7373" y="9669"/>
                  <a:pt x="7406" y="9732"/>
                  <a:pt x="7417" y="9798"/>
                </a:cubicBezTo>
                <a:cubicBezTo>
                  <a:pt x="7417" y="9842"/>
                  <a:pt x="7414" y="9855"/>
                  <a:pt x="7441" y="9872"/>
                </a:cubicBezTo>
              </a:path>
              <a:path w="4962" h="721">
                <a:moveTo>
                  <a:pt x="7714" y="9798"/>
                </a:moveTo>
                <a:cubicBezTo>
                  <a:pt x="7739" y="9823"/>
                  <a:pt x="7747" y="9831"/>
                  <a:pt x="7764" y="9847"/>
                </a:cubicBezTo>
              </a:path>
              <a:path w="4962" h="721">
                <a:moveTo>
                  <a:pt x="8161" y="9525"/>
                </a:moveTo>
                <a:cubicBezTo>
                  <a:pt x="8161" y="9508"/>
                  <a:pt x="8161" y="9492"/>
                  <a:pt x="8161" y="9475"/>
                </a:cubicBezTo>
                <a:cubicBezTo>
                  <a:pt x="8148" y="9526"/>
                  <a:pt x="8103" y="9569"/>
                  <a:pt x="8086" y="9624"/>
                </a:cubicBezTo>
                <a:cubicBezTo>
                  <a:pt x="8070" y="9675"/>
                  <a:pt x="8093" y="9720"/>
                  <a:pt x="8136" y="9748"/>
                </a:cubicBezTo>
                <a:cubicBezTo>
                  <a:pt x="8202" y="9790"/>
                  <a:pt x="8288" y="9770"/>
                  <a:pt x="8359" y="9798"/>
                </a:cubicBezTo>
                <a:cubicBezTo>
                  <a:pt x="8405" y="9816"/>
                  <a:pt x="8429" y="9849"/>
                  <a:pt x="8434" y="9897"/>
                </a:cubicBezTo>
                <a:cubicBezTo>
                  <a:pt x="8439" y="9944"/>
                  <a:pt x="8372" y="9983"/>
                  <a:pt x="8334" y="9996"/>
                </a:cubicBezTo>
                <a:cubicBezTo>
                  <a:pt x="8276" y="10016"/>
                  <a:pt x="8181" y="9998"/>
                  <a:pt x="8136" y="9971"/>
                </a:cubicBezTo>
              </a:path>
              <a:path w="4962" h="721">
                <a:moveTo>
                  <a:pt x="8533" y="9401"/>
                </a:moveTo>
                <a:cubicBezTo>
                  <a:pt x="8533" y="9384"/>
                  <a:pt x="8533" y="9368"/>
                  <a:pt x="8533" y="9351"/>
                </a:cubicBezTo>
                <a:cubicBezTo>
                  <a:pt x="8473" y="9399"/>
                  <a:pt x="8404" y="9420"/>
                  <a:pt x="8334" y="9451"/>
                </a:cubicBezTo>
              </a:path>
              <a:path w="4962" h="721">
                <a:moveTo>
                  <a:pt x="9327" y="9500"/>
                </a:moveTo>
                <a:cubicBezTo>
                  <a:pt x="9349" y="9477"/>
                  <a:pt x="9354" y="9469"/>
                  <a:pt x="9376" y="9475"/>
                </a:cubicBezTo>
                <a:cubicBezTo>
                  <a:pt x="9335" y="9516"/>
                  <a:pt x="9311" y="9554"/>
                  <a:pt x="9277" y="9599"/>
                </a:cubicBezTo>
                <a:cubicBezTo>
                  <a:pt x="9243" y="9644"/>
                  <a:pt x="9209" y="9661"/>
                  <a:pt x="9203" y="9723"/>
                </a:cubicBezTo>
                <a:cubicBezTo>
                  <a:pt x="9199" y="9769"/>
                  <a:pt x="9204" y="9793"/>
                  <a:pt x="9252" y="9798"/>
                </a:cubicBezTo>
                <a:cubicBezTo>
                  <a:pt x="9321" y="9806"/>
                  <a:pt x="9423" y="9813"/>
                  <a:pt x="9475" y="9773"/>
                </a:cubicBezTo>
              </a:path>
              <a:path w="4962" h="721">
                <a:moveTo>
                  <a:pt x="9525" y="9872"/>
                </a:moveTo>
                <a:cubicBezTo>
                  <a:pt x="9525" y="9880"/>
                  <a:pt x="9525" y="9889"/>
                  <a:pt x="9525" y="9897"/>
                </a:cubicBezTo>
                <a:cubicBezTo>
                  <a:pt x="9475" y="9897"/>
                  <a:pt x="9426" y="9897"/>
                  <a:pt x="9376" y="9897"/>
                </a:cubicBezTo>
              </a:path>
              <a:path w="4962" h="721">
                <a:moveTo>
                  <a:pt x="10096" y="9575"/>
                </a:moveTo>
                <a:cubicBezTo>
                  <a:pt x="10050" y="9586"/>
                  <a:pt x="10030" y="9621"/>
                  <a:pt x="10021" y="9674"/>
                </a:cubicBezTo>
                <a:cubicBezTo>
                  <a:pt x="10012" y="9724"/>
                  <a:pt x="10053" y="9788"/>
                  <a:pt x="10096" y="9798"/>
                </a:cubicBezTo>
                <a:cubicBezTo>
                  <a:pt x="10177" y="9816"/>
                  <a:pt x="10193" y="9729"/>
                  <a:pt x="10195" y="9674"/>
                </a:cubicBezTo>
                <a:cubicBezTo>
                  <a:pt x="10199" y="9575"/>
                  <a:pt x="10195" y="9475"/>
                  <a:pt x="10195" y="9376"/>
                </a:cubicBezTo>
                <a:cubicBezTo>
                  <a:pt x="10243" y="9437"/>
                  <a:pt x="10255" y="9508"/>
                  <a:pt x="10294" y="9575"/>
                </a:cubicBezTo>
                <a:cubicBezTo>
                  <a:pt x="10340" y="9653"/>
                  <a:pt x="10399" y="9724"/>
                  <a:pt x="10468" y="9773"/>
                </a:cubicBezTo>
              </a:path>
              <a:path w="4962" h="721">
                <a:moveTo>
                  <a:pt x="11336" y="9451"/>
                </a:moveTo>
                <a:cubicBezTo>
                  <a:pt x="11379" y="9385"/>
                  <a:pt x="11379" y="9418"/>
                  <a:pt x="11435" y="9376"/>
                </a:cubicBezTo>
                <a:cubicBezTo>
                  <a:pt x="11377" y="9390"/>
                  <a:pt x="11362" y="9439"/>
                  <a:pt x="11311" y="9475"/>
                </a:cubicBezTo>
                <a:cubicBezTo>
                  <a:pt x="11245" y="9521"/>
                  <a:pt x="11215" y="9566"/>
                  <a:pt x="11162" y="9624"/>
                </a:cubicBezTo>
                <a:cubicBezTo>
                  <a:pt x="11134" y="9652"/>
                  <a:pt x="11125" y="9666"/>
                  <a:pt x="11137" y="9699"/>
                </a:cubicBezTo>
                <a:cubicBezTo>
                  <a:pt x="11219" y="9699"/>
                  <a:pt x="11280" y="9678"/>
                  <a:pt x="11361" y="9674"/>
                </a:cubicBezTo>
                <a:cubicBezTo>
                  <a:pt x="11438" y="9670"/>
                  <a:pt x="11488" y="9667"/>
                  <a:pt x="11559" y="9649"/>
                </a:cubicBezTo>
                <a:cubicBezTo>
                  <a:pt x="11584" y="9649"/>
                  <a:pt x="11592" y="9649"/>
                  <a:pt x="11609" y="96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64000" y="3286080"/>
            <a:ext cx="866880" cy="357120"/>
          </a:xfrm>
          <a:custGeom>
            <a:avLst/>
            <a:gdLst/>
            <a:ahLst/>
            <a:rect l="l" t="t" r="r" b="b"/>
            <a:pathLst>
              <a:path w="2407" h="993">
                <a:moveTo>
                  <a:pt x="12427" y="9351"/>
                </a:moveTo>
                <a:cubicBezTo>
                  <a:pt x="12442" y="9324"/>
                  <a:pt x="12498" y="9154"/>
                  <a:pt x="12477" y="9227"/>
                </a:cubicBezTo>
                <a:cubicBezTo>
                  <a:pt x="12457" y="9298"/>
                  <a:pt x="12416" y="9378"/>
                  <a:pt x="12402" y="9451"/>
                </a:cubicBezTo>
                <a:cubicBezTo>
                  <a:pt x="12393" y="9498"/>
                  <a:pt x="12387" y="9594"/>
                  <a:pt x="12427" y="9624"/>
                </a:cubicBezTo>
                <a:cubicBezTo>
                  <a:pt x="12518" y="9694"/>
                  <a:pt x="12575" y="9660"/>
                  <a:pt x="12675" y="9649"/>
                </a:cubicBezTo>
                <a:cubicBezTo>
                  <a:pt x="12788" y="9636"/>
                  <a:pt x="12894" y="9660"/>
                  <a:pt x="12998" y="9674"/>
                </a:cubicBezTo>
                <a:cubicBezTo>
                  <a:pt x="13023" y="9674"/>
                  <a:pt x="13047" y="9674"/>
                  <a:pt x="13072" y="9674"/>
                </a:cubicBezTo>
              </a:path>
              <a:path w="2407" h="993">
                <a:moveTo>
                  <a:pt x="12824" y="9525"/>
                </a:moveTo>
                <a:cubicBezTo>
                  <a:pt x="12816" y="9517"/>
                  <a:pt x="12807" y="9508"/>
                  <a:pt x="12799" y="9500"/>
                </a:cubicBezTo>
                <a:cubicBezTo>
                  <a:pt x="12812" y="9566"/>
                  <a:pt x="12839" y="9631"/>
                  <a:pt x="12849" y="9699"/>
                </a:cubicBezTo>
                <a:cubicBezTo>
                  <a:pt x="12857" y="9752"/>
                  <a:pt x="12867" y="9794"/>
                  <a:pt x="12874" y="9847"/>
                </a:cubicBezTo>
              </a:path>
              <a:path w="2407" h="993">
                <a:moveTo>
                  <a:pt x="13221" y="9451"/>
                </a:moveTo>
                <a:cubicBezTo>
                  <a:pt x="13179" y="9437"/>
                  <a:pt x="13190" y="9411"/>
                  <a:pt x="13221" y="9376"/>
                </a:cubicBezTo>
                <a:cubicBezTo>
                  <a:pt x="13260" y="9332"/>
                  <a:pt x="13313" y="9295"/>
                  <a:pt x="13370" y="9277"/>
                </a:cubicBezTo>
                <a:cubicBezTo>
                  <a:pt x="13420" y="9262"/>
                  <a:pt x="13484" y="9337"/>
                  <a:pt x="13494" y="9376"/>
                </a:cubicBezTo>
                <a:cubicBezTo>
                  <a:pt x="13517" y="9463"/>
                  <a:pt x="13484" y="9511"/>
                  <a:pt x="13444" y="9575"/>
                </a:cubicBezTo>
                <a:cubicBezTo>
                  <a:pt x="13420" y="9615"/>
                  <a:pt x="13399" y="9678"/>
                  <a:pt x="13395" y="9723"/>
                </a:cubicBezTo>
                <a:cubicBezTo>
                  <a:pt x="13395" y="9731"/>
                  <a:pt x="13395" y="9740"/>
                  <a:pt x="13395" y="9748"/>
                </a:cubicBezTo>
                <a:cubicBezTo>
                  <a:pt x="13468" y="9748"/>
                  <a:pt x="13533" y="9735"/>
                  <a:pt x="13593" y="9723"/>
                </a:cubicBezTo>
                <a:cubicBezTo>
                  <a:pt x="13638" y="9723"/>
                  <a:pt x="13651" y="9727"/>
                  <a:pt x="13667" y="9699"/>
                </a:cubicBezTo>
              </a:path>
              <a:path w="2407" h="993">
                <a:moveTo>
                  <a:pt x="14039" y="9575"/>
                </a:moveTo>
                <a:lnTo>
                  <a:pt x="14039" y="9575"/>
                </a:lnTo>
                <a:lnTo>
                  <a:pt x="14039" y="9575"/>
                </a:lnTo>
                <a:lnTo>
                  <a:pt x="14039" y="9575"/>
                </a:lnTo>
                <a:lnTo>
                  <a:pt x="14039" y="9575"/>
                </a:lnTo>
              </a:path>
              <a:path w="2407" h="993">
                <a:moveTo>
                  <a:pt x="14412" y="9203"/>
                </a:moveTo>
                <a:cubicBezTo>
                  <a:pt x="14404" y="9195"/>
                  <a:pt x="14395" y="9186"/>
                  <a:pt x="14387" y="9178"/>
                </a:cubicBezTo>
                <a:cubicBezTo>
                  <a:pt x="14353" y="9189"/>
                  <a:pt x="14335" y="9232"/>
                  <a:pt x="14312" y="9277"/>
                </a:cubicBezTo>
                <a:cubicBezTo>
                  <a:pt x="14279" y="9340"/>
                  <a:pt x="14264" y="9392"/>
                  <a:pt x="14337" y="9426"/>
                </a:cubicBezTo>
                <a:cubicBezTo>
                  <a:pt x="14388" y="9449"/>
                  <a:pt x="14480" y="9433"/>
                  <a:pt x="14536" y="9451"/>
                </a:cubicBezTo>
                <a:cubicBezTo>
                  <a:pt x="14607" y="9474"/>
                  <a:pt x="14658" y="9469"/>
                  <a:pt x="14684" y="9550"/>
                </a:cubicBezTo>
                <a:cubicBezTo>
                  <a:pt x="14693" y="9577"/>
                  <a:pt x="14693" y="9664"/>
                  <a:pt x="14660" y="9674"/>
                </a:cubicBezTo>
                <a:cubicBezTo>
                  <a:pt x="14583" y="9698"/>
                  <a:pt x="14469" y="9674"/>
                  <a:pt x="14387" y="9674"/>
                </a:cubicBezTo>
              </a:path>
              <a:path w="2407" h="993">
                <a:moveTo>
                  <a:pt x="14808" y="9128"/>
                </a:moveTo>
                <a:cubicBezTo>
                  <a:pt x="14766" y="9139"/>
                  <a:pt x="14732" y="9170"/>
                  <a:pt x="14684" y="9178"/>
                </a:cubicBezTo>
                <a:cubicBezTo>
                  <a:pt x="14627" y="9188"/>
                  <a:pt x="14569" y="9196"/>
                  <a:pt x="14511" y="9203"/>
                </a:cubicBezTo>
              </a:path>
              <a:path w="2407" h="993">
                <a:moveTo>
                  <a:pt x="14585" y="10071"/>
                </a:moveTo>
                <a:cubicBezTo>
                  <a:pt x="14554" y="10046"/>
                  <a:pt x="14525" y="10028"/>
                  <a:pt x="14486" y="10021"/>
                </a:cubicBezTo>
                <a:cubicBezTo>
                  <a:pt x="14436" y="10012"/>
                  <a:pt x="14381" y="10018"/>
                  <a:pt x="14337" y="9996"/>
                </a:cubicBezTo>
                <a:cubicBezTo>
                  <a:pt x="14285" y="9970"/>
                  <a:pt x="14251" y="9971"/>
                  <a:pt x="14188" y="9971"/>
                </a:cubicBezTo>
                <a:cubicBezTo>
                  <a:pt x="14108" y="9971"/>
                  <a:pt x="14046" y="9947"/>
                  <a:pt x="13965" y="9947"/>
                </a:cubicBezTo>
                <a:cubicBezTo>
                  <a:pt x="13788" y="9947"/>
                  <a:pt x="13613" y="9944"/>
                  <a:pt x="13444" y="9971"/>
                </a:cubicBezTo>
                <a:cubicBezTo>
                  <a:pt x="13376" y="9982"/>
                  <a:pt x="13312" y="9979"/>
                  <a:pt x="13246" y="9996"/>
                </a:cubicBezTo>
                <a:cubicBezTo>
                  <a:pt x="13181" y="10013"/>
                  <a:pt x="13079" y="10019"/>
                  <a:pt x="13022" y="10046"/>
                </a:cubicBezTo>
                <a:cubicBezTo>
                  <a:pt x="12977" y="10067"/>
                  <a:pt x="12903" y="10089"/>
                  <a:pt x="12849" y="10096"/>
                </a:cubicBezTo>
                <a:cubicBezTo>
                  <a:pt x="12792" y="10103"/>
                  <a:pt x="12755" y="10117"/>
                  <a:pt x="12700" y="10120"/>
                </a:cubicBezTo>
                <a:cubicBezTo>
                  <a:pt x="12651" y="10123"/>
                  <a:pt x="12600" y="10120"/>
                  <a:pt x="12551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0200" y="4062240"/>
            <a:ext cx="482760" cy="223920"/>
          </a:xfrm>
          <a:custGeom>
            <a:avLst/>
            <a:gdLst/>
            <a:ahLst/>
            <a:rect l="l" t="t" r="r" b="b"/>
            <a:pathLst>
              <a:path w="1341" h="621">
                <a:moveTo>
                  <a:pt x="7169" y="11609"/>
                </a:moveTo>
                <a:cubicBezTo>
                  <a:pt x="7172" y="11608"/>
                  <a:pt x="7240" y="11587"/>
                  <a:pt x="7243" y="11584"/>
                </a:cubicBezTo>
                <a:cubicBezTo>
                  <a:pt x="7243" y="11576"/>
                  <a:pt x="7243" y="11567"/>
                  <a:pt x="7243" y="11559"/>
                </a:cubicBezTo>
                <a:cubicBezTo>
                  <a:pt x="7234" y="11522"/>
                  <a:pt x="7207" y="11497"/>
                  <a:pt x="7169" y="11485"/>
                </a:cubicBezTo>
                <a:cubicBezTo>
                  <a:pt x="7121" y="11470"/>
                  <a:pt x="7028" y="11498"/>
                  <a:pt x="6995" y="11534"/>
                </a:cubicBezTo>
                <a:cubicBezTo>
                  <a:pt x="6957" y="11575"/>
                  <a:pt x="6923" y="11678"/>
                  <a:pt x="6945" y="11733"/>
                </a:cubicBezTo>
                <a:cubicBezTo>
                  <a:pt x="6963" y="11780"/>
                  <a:pt x="7068" y="11761"/>
                  <a:pt x="7094" y="11733"/>
                </a:cubicBezTo>
                <a:cubicBezTo>
                  <a:pt x="7135" y="11688"/>
                  <a:pt x="7142" y="11606"/>
                  <a:pt x="7169" y="11559"/>
                </a:cubicBezTo>
                <a:cubicBezTo>
                  <a:pt x="7177" y="11551"/>
                  <a:pt x="7185" y="11542"/>
                  <a:pt x="7193" y="11534"/>
                </a:cubicBezTo>
                <a:cubicBezTo>
                  <a:pt x="7252" y="11593"/>
                  <a:pt x="7267" y="11653"/>
                  <a:pt x="7293" y="11733"/>
                </a:cubicBezTo>
                <a:cubicBezTo>
                  <a:pt x="7314" y="11797"/>
                  <a:pt x="7330" y="11852"/>
                  <a:pt x="7367" y="11906"/>
                </a:cubicBezTo>
              </a:path>
              <a:path w="1341" h="621">
                <a:moveTo>
                  <a:pt x="7615" y="11782"/>
                </a:moveTo>
                <a:cubicBezTo>
                  <a:pt x="7623" y="11790"/>
                  <a:pt x="7632" y="11799"/>
                  <a:pt x="7640" y="11807"/>
                </a:cubicBezTo>
              </a:path>
              <a:path w="1341" h="621">
                <a:moveTo>
                  <a:pt x="7913" y="11460"/>
                </a:moveTo>
                <a:cubicBezTo>
                  <a:pt x="7913" y="11415"/>
                  <a:pt x="7870" y="11486"/>
                  <a:pt x="7863" y="11509"/>
                </a:cubicBezTo>
                <a:cubicBezTo>
                  <a:pt x="7856" y="11534"/>
                  <a:pt x="7852" y="11622"/>
                  <a:pt x="7888" y="11633"/>
                </a:cubicBezTo>
                <a:cubicBezTo>
                  <a:pt x="7950" y="11652"/>
                  <a:pt x="8054" y="11647"/>
                  <a:pt x="8111" y="11658"/>
                </a:cubicBezTo>
                <a:cubicBezTo>
                  <a:pt x="8192" y="11674"/>
                  <a:pt x="8186" y="11702"/>
                  <a:pt x="8186" y="11782"/>
                </a:cubicBezTo>
                <a:cubicBezTo>
                  <a:pt x="8186" y="11824"/>
                  <a:pt x="8150" y="11854"/>
                  <a:pt x="8111" y="11857"/>
                </a:cubicBezTo>
                <a:cubicBezTo>
                  <a:pt x="8054" y="11861"/>
                  <a:pt x="7995" y="11857"/>
                  <a:pt x="7938" y="11857"/>
                </a:cubicBezTo>
              </a:path>
              <a:path w="1341" h="621">
                <a:moveTo>
                  <a:pt x="8285" y="11286"/>
                </a:moveTo>
                <a:cubicBezTo>
                  <a:pt x="8236" y="11298"/>
                  <a:pt x="8186" y="11336"/>
                  <a:pt x="8136" y="11361"/>
                </a:cubicBezTo>
                <a:cubicBezTo>
                  <a:pt x="8119" y="11369"/>
                  <a:pt x="8103" y="11377"/>
                  <a:pt x="8086" y="113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02000" y="4044960"/>
            <a:ext cx="12528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9624" y="11286"/>
                </a:moveTo>
                <a:cubicBezTo>
                  <a:pt x="9649" y="11261"/>
                  <a:pt x="9657" y="11253"/>
                  <a:pt x="9674" y="11237"/>
                </a:cubicBezTo>
                <a:cubicBezTo>
                  <a:pt x="9623" y="11237"/>
                  <a:pt x="9592" y="11254"/>
                  <a:pt x="9550" y="11286"/>
                </a:cubicBezTo>
                <a:cubicBezTo>
                  <a:pt x="9498" y="11325"/>
                  <a:pt x="9454" y="11426"/>
                  <a:pt x="9451" y="11485"/>
                </a:cubicBezTo>
                <a:cubicBezTo>
                  <a:pt x="9447" y="11557"/>
                  <a:pt x="9451" y="11565"/>
                  <a:pt x="9525" y="11584"/>
                </a:cubicBezTo>
                <a:cubicBezTo>
                  <a:pt x="9579" y="11598"/>
                  <a:pt x="9644" y="11605"/>
                  <a:pt x="9699" y="11609"/>
                </a:cubicBezTo>
                <a:cubicBezTo>
                  <a:pt x="9723" y="11611"/>
                  <a:pt x="9749" y="11609"/>
                  <a:pt x="9773" y="11609"/>
                </a:cubicBezTo>
              </a:path>
              <a:path w="348" h="497">
                <a:moveTo>
                  <a:pt x="9798" y="11733"/>
                </a:moveTo>
                <a:cubicBezTo>
                  <a:pt x="9729" y="11733"/>
                  <a:pt x="9680" y="11738"/>
                  <a:pt x="9624" y="11708"/>
                </a:cubicBezTo>
                <a:cubicBezTo>
                  <a:pt x="9608" y="11700"/>
                  <a:pt x="9591" y="11691"/>
                  <a:pt x="9575" y="116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7760" y="4044960"/>
            <a:ext cx="107640" cy="12528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10889" y="11286"/>
                </a:moveTo>
                <a:cubicBezTo>
                  <a:pt x="10897" y="11270"/>
                  <a:pt x="10906" y="11253"/>
                  <a:pt x="10914" y="11237"/>
                </a:cubicBezTo>
                <a:cubicBezTo>
                  <a:pt x="10866" y="11237"/>
                  <a:pt x="10800" y="11249"/>
                  <a:pt x="10765" y="11286"/>
                </a:cubicBezTo>
                <a:cubicBezTo>
                  <a:pt x="10743" y="11310"/>
                  <a:pt x="10723" y="11356"/>
                  <a:pt x="10716" y="11385"/>
                </a:cubicBezTo>
                <a:cubicBezTo>
                  <a:pt x="10785" y="11441"/>
                  <a:pt x="10826" y="11435"/>
                  <a:pt x="10914" y="11435"/>
                </a:cubicBezTo>
                <a:cubicBezTo>
                  <a:pt x="10965" y="11435"/>
                  <a:pt x="11007" y="11460"/>
                  <a:pt x="11013" y="11509"/>
                </a:cubicBezTo>
                <a:cubicBezTo>
                  <a:pt x="11018" y="11551"/>
                  <a:pt x="10974" y="11580"/>
                  <a:pt x="10939" y="11584"/>
                </a:cubicBezTo>
                <a:cubicBezTo>
                  <a:pt x="10906" y="11584"/>
                  <a:pt x="10889" y="11584"/>
                  <a:pt x="10864" y="115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76800" y="3983040"/>
            <a:ext cx="125280" cy="98280"/>
          </a:xfrm>
          <a:custGeom>
            <a:avLst/>
            <a:gdLst/>
            <a:ahLst/>
            <a:rect l="l" t="t" r="r" b="b"/>
            <a:pathLst>
              <a:path w="349" h="274">
                <a:moveTo>
                  <a:pt x="12055" y="11088"/>
                </a:moveTo>
                <a:cubicBezTo>
                  <a:pt x="12093" y="11060"/>
                  <a:pt x="12109" y="11033"/>
                  <a:pt x="12055" y="11063"/>
                </a:cubicBezTo>
                <a:cubicBezTo>
                  <a:pt x="12012" y="11087"/>
                  <a:pt x="11974" y="11136"/>
                  <a:pt x="11931" y="11162"/>
                </a:cubicBezTo>
                <a:cubicBezTo>
                  <a:pt x="11893" y="11185"/>
                  <a:pt x="11851" y="11233"/>
                  <a:pt x="11881" y="11286"/>
                </a:cubicBezTo>
                <a:cubicBezTo>
                  <a:pt x="11906" y="11332"/>
                  <a:pt x="11988" y="11311"/>
                  <a:pt x="12030" y="11311"/>
                </a:cubicBezTo>
                <a:cubicBezTo>
                  <a:pt x="12103" y="11311"/>
                  <a:pt x="12170" y="11300"/>
                  <a:pt x="12229" y="113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60920" y="3983040"/>
            <a:ext cx="936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2948" y="11112"/>
                </a:moveTo>
                <a:cubicBezTo>
                  <a:pt x="12948" y="11096"/>
                  <a:pt x="12948" y="11079"/>
                  <a:pt x="12948" y="11063"/>
                </a:cubicBezTo>
                <a:cubicBezTo>
                  <a:pt x="12948" y="11167"/>
                  <a:pt x="12937" y="11265"/>
                  <a:pt x="12973" y="113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95920" y="3983040"/>
            <a:ext cx="204840" cy="115920"/>
          </a:xfrm>
          <a:custGeom>
            <a:avLst/>
            <a:gdLst/>
            <a:ahLst/>
            <a:rect l="l" t="t" r="r" b="b"/>
            <a:pathLst>
              <a:path w="572" h="323">
                <a:moveTo>
                  <a:pt x="13370" y="11261"/>
                </a:moveTo>
                <a:cubicBezTo>
                  <a:pt x="13349" y="11234"/>
                  <a:pt x="13331" y="11201"/>
                  <a:pt x="13345" y="11162"/>
                </a:cubicBezTo>
                <a:cubicBezTo>
                  <a:pt x="13372" y="11086"/>
                  <a:pt x="13419" y="11067"/>
                  <a:pt x="13494" y="11063"/>
                </a:cubicBezTo>
                <a:cubicBezTo>
                  <a:pt x="13597" y="11057"/>
                  <a:pt x="13627" y="11176"/>
                  <a:pt x="13643" y="11261"/>
                </a:cubicBezTo>
                <a:cubicBezTo>
                  <a:pt x="13660" y="11355"/>
                  <a:pt x="13596" y="11381"/>
                  <a:pt x="13519" y="11385"/>
                </a:cubicBezTo>
                <a:cubicBezTo>
                  <a:pt x="13447" y="11389"/>
                  <a:pt x="13390" y="11345"/>
                  <a:pt x="13320" y="11336"/>
                </a:cubicBezTo>
              </a:path>
              <a:path w="572" h="323">
                <a:moveTo>
                  <a:pt x="13866" y="11286"/>
                </a:moveTo>
                <a:cubicBezTo>
                  <a:pt x="13874" y="11286"/>
                  <a:pt x="13883" y="11286"/>
                  <a:pt x="13891" y="112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26040" y="3911760"/>
            <a:ext cx="152280" cy="160200"/>
          </a:xfrm>
          <a:custGeom>
            <a:avLst/>
            <a:gdLst/>
            <a:ahLst/>
            <a:rect l="l" t="t" r="r" b="b"/>
            <a:pathLst>
              <a:path w="423" h="448">
                <a:moveTo>
                  <a:pt x="14288" y="10964"/>
                </a:moveTo>
                <a:cubicBezTo>
                  <a:pt x="14288" y="10906"/>
                  <a:pt x="14280" y="10862"/>
                  <a:pt x="14263" y="10939"/>
                </a:cubicBezTo>
                <a:cubicBezTo>
                  <a:pt x="14253" y="10986"/>
                  <a:pt x="14276" y="11057"/>
                  <a:pt x="14312" y="11088"/>
                </a:cubicBezTo>
                <a:cubicBezTo>
                  <a:pt x="14364" y="11132"/>
                  <a:pt x="14450" y="11119"/>
                  <a:pt x="14511" y="11162"/>
                </a:cubicBezTo>
                <a:cubicBezTo>
                  <a:pt x="14555" y="11192"/>
                  <a:pt x="14539" y="11230"/>
                  <a:pt x="14511" y="11261"/>
                </a:cubicBezTo>
                <a:cubicBezTo>
                  <a:pt x="14469" y="11307"/>
                  <a:pt x="14399" y="11328"/>
                  <a:pt x="14337" y="11311"/>
                </a:cubicBezTo>
                <a:cubicBezTo>
                  <a:pt x="14288" y="11286"/>
                  <a:pt x="14271" y="11277"/>
                  <a:pt x="14238" y="11261"/>
                </a:cubicBezTo>
              </a:path>
              <a:path w="423" h="448">
                <a:moveTo>
                  <a:pt x="14660" y="10914"/>
                </a:moveTo>
                <a:cubicBezTo>
                  <a:pt x="14660" y="10897"/>
                  <a:pt x="14660" y="10881"/>
                  <a:pt x="14660" y="10864"/>
                </a:cubicBezTo>
                <a:cubicBezTo>
                  <a:pt x="14594" y="10864"/>
                  <a:pt x="14551" y="10869"/>
                  <a:pt x="14486" y="10889"/>
                </a:cubicBezTo>
                <a:cubicBezTo>
                  <a:pt x="14405" y="10916"/>
                  <a:pt x="14373" y="10925"/>
                  <a:pt x="14312" y="109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7920" y="4348080"/>
            <a:ext cx="652320" cy="679680"/>
          </a:xfrm>
          <a:custGeom>
            <a:avLst/>
            <a:gdLst/>
            <a:ahLst/>
            <a:rect l="l" t="t" r="r" b="b"/>
            <a:pathLst>
              <a:path w="1811" h="1886">
                <a:moveTo>
                  <a:pt x="6722" y="13047"/>
                </a:moveTo>
                <a:cubicBezTo>
                  <a:pt x="6730" y="13047"/>
                  <a:pt x="6739" y="13047"/>
                  <a:pt x="6747" y="13047"/>
                </a:cubicBezTo>
                <a:cubicBezTo>
                  <a:pt x="6747" y="12986"/>
                  <a:pt x="6744" y="12995"/>
                  <a:pt x="6697" y="13022"/>
                </a:cubicBezTo>
                <a:cubicBezTo>
                  <a:pt x="6650" y="13049"/>
                  <a:pt x="6611" y="13160"/>
                  <a:pt x="6648" y="13221"/>
                </a:cubicBezTo>
                <a:cubicBezTo>
                  <a:pt x="6664" y="13229"/>
                  <a:pt x="6681" y="13238"/>
                  <a:pt x="6697" y="13246"/>
                </a:cubicBezTo>
                <a:cubicBezTo>
                  <a:pt x="6793" y="13219"/>
                  <a:pt x="6819" y="13128"/>
                  <a:pt x="6846" y="13022"/>
                </a:cubicBezTo>
                <a:cubicBezTo>
                  <a:pt x="6872" y="12916"/>
                  <a:pt x="6901" y="12735"/>
                  <a:pt x="6871" y="12626"/>
                </a:cubicBezTo>
                <a:cubicBezTo>
                  <a:pt x="6846" y="12601"/>
                  <a:pt x="6838" y="12593"/>
                  <a:pt x="6821" y="12626"/>
                </a:cubicBezTo>
                <a:cubicBezTo>
                  <a:pt x="6831" y="12752"/>
                  <a:pt x="6853" y="12901"/>
                  <a:pt x="6896" y="13022"/>
                </a:cubicBezTo>
                <a:cubicBezTo>
                  <a:pt x="6942" y="13115"/>
                  <a:pt x="6954" y="13143"/>
                  <a:pt x="6995" y="13196"/>
                </a:cubicBezTo>
              </a:path>
              <a:path w="1811" h="1886">
                <a:moveTo>
                  <a:pt x="7342" y="13444"/>
                </a:moveTo>
                <a:cubicBezTo>
                  <a:pt x="7284" y="13444"/>
                  <a:pt x="7252" y="13462"/>
                  <a:pt x="7193" y="13469"/>
                </a:cubicBezTo>
                <a:cubicBezTo>
                  <a:pt x="6989" y="13494"/>
                  <a:pt x="6761" y="13438"/>
                  <a:pt x="6573" y="13494"/>
                </a:cubicBezTo>
                <a:cubicBezTo>
                  <a:pt x="6548" y="13494"/>
                  <a:pt x="6540" y="13494"/>
                  <a:pt x="6524" y="13494"/>
                </a:cubicBezTo>
              </a:path>
              <a:path w="1811" h="1886">
                <a:moveTo>
                  <a:pt x="6945" y="13742"/>
                </a:moveTo>
                <a:cubicBezTo>
                  <a:pt x="6965" y="13701"/>
                  <a:pt x="6974" y="13695"/>
                  <a:pt x="6970" y="13667"/>
                </a:cubicBezTo>
                <a:cubicBezTo>
                  <a:pt x="6911" y="13667"/>
                  <a:pt x="6870" y="13663"/>
                  <a:pt x="6821" y="13692"/>
                </a:cubicBezTo>
                <a:cubicBezTo>
                  <a:pt x="6839" y="13763"/>
                  <a:pt x="6879" y="13761"/>
                  <a:pt x="6945" y="13791"/>
                </a:cubicBezTo>
                <a:cubicBezTo>
                  <a:pt x="7020" y="13824"/>
                  <a:pt x="7072" y="13825"/>
                  <a:pt x="7144" y="13866"/>
                </a:cubicBezTo>
                <a:cubicBezTo>
                  <a:pt x="7144" y="13912"/>
                  <a:pt x="7118" y="13955"/>
                  <a:pt x="7069" y="13965"/>
                </a:cubicBezTo>
                <a:cubicBezTo>
                  <a:pt x="6989" y="13981"/>
                  <a:pt x="6894" y="13964"/>
                  <a:pt x="6821" y="13940"/>
                </a:cubicBezTo>
              </a:path>
              <a:path w="1811" h="1886">
                <a:moveTo>
                  <a:pt x="8186" y="12080"/>
                </a:moveTo>
                <a:cubicBezTo>
                  <a:pt x="8227" y="12111"/>
                  <a:pt x="8247" y="12085"/>
                  <a:pt x="8285" y="12105"/>
                </a:cubicBezTo>
                <a:cubicBezTo>
                  <a:pt x="8336" y="12132"/>
                  <a:pt x="8341" y="12129"/>
                  <a:pt x="8285" y="12129"/>
                </a:cubicBezTo>
                <a:cubicBezTo>
                  <a:pt x="8232" y="12129"/>
                  <a:pt x="8215" y="12149"/>
                  <a:pt x="8161" y="12154"/>
                </a:cubicBezTo>
                <a:cubicBezTo>
                  <a:pt x="8088" y="12160"/>
                  <a:pt x="8023" y="12166"/>
                  <a:pt x="7962" y="12179"/>
                </a:cubicBezTo>
                <a:cubicBezTo>
                  <a:pt x="7875" y="12198"/>
                  <a:pt x="7768" y="12188"/>
                  <a:pt x="7689" y="12204"/>
                </a:cubicBezTo>
                <a:cubicBezTo>
                  <a:pt x="7627" y="12217"/>
                  <a:pt x="7552" y="12219"/>
                  <a:pt x="7491" y="12229"/>
                </a:cubicBezTo>
                <a:cubicBezTo>
                  <a:pt x="7430" y="12239"/>
                  <a:pt x="7375" y="12251"/>
                  <a:pt x="7317" y="12254"/>
                </a:cubicBezTo>
                <a:cubicBezTo>
                  <a:pt x="7212" y="12260"/>
                  <a:pt x="7110" y="12247"/>
                  <a:pt x="7020" y="12229"/>
                </a:cubicBezTo>
                <a:cubicBezTo>
                  <a:pt x="6968" y="12219"/>
                  <a:pt x="6900" y="12229"/>
                  <a:pt x="6846" y="122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5120" y="4759200"/>
            <a:ext cx="73080" cy="1080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10418" y="13246"/>
                </a:moveTo>
                <a:cubicBezTo>
                  <a:pt x="10463" y="13246"/>
                  <a:pt x="10480" y="13259"/>
                  <a:pt x="10492" y="13221"/>
                </a:cubicBezTo>
                <a:cubicBezTo>
                  <a:pt x="10457" y="13230"/>
                  <a:pt x="10425" y="13264"/>
                  <a:pt x="10393" y="13271"/>
                </a:cubicBezTo>
                <a:cubicBezTo>
                  <a:pt x="10328" y="13285"/>
                  <a:pt x="10337" y="13281"/>
                  <a:pt x="10294" y="13295"/>
                </a:cubicBezTo>
              </a:path>
              <a:path w="199" h="299">
                <a:moveTo>
                  <a:pt x="10468" y="13419"/>
                </a:moveTo>
                <a:cubicBezTo>
                  <a:pt x="10468" y="13447"/>
                  <a:pt x="10470" y="13458"/>
                  <a:pt x="10492" y="13469"/>
                </a:cubicBezTo>
                <a:cubicBezTo>
                  <a:pt x="10448" y="13503"/>
                  <a:pt x="10413" y="13471"/>
                  <a:pt x="10368" y="13494"/>
                </a:cubicBezTo>
                <a:cubicBezTo>
                  <a:pt x="10360" y="13502"/>
                  <a:pt x="10352" y="13511"/>
                  <a:pt x="10344" y="135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46720" y="4429080"/>
            <a:ext cx="866520" cy="608040"/>
          </a:xfrm>
          <a:custGeom>
            <a:avLst/>
            <a:gdLst/>
            <a:ahLst/>
            <a:rect l="l" t="t" r="r" b="b"/>
            <a:pathLst>
              <a:path w="2407" h="1688">
                <a:moveTo>
                  <a:pt x="12427" y="12378"/>
                </a:moveTo>
                <a:cubicBezTo>
                  <a:pt x="12459" y="12329"/>
                  <a:pt x="12462" y="12316"/>
                  <a:pt x="12502" y="12303"/>
                </a:cubicBezTo>
                <a:cubicBezTo>
                  <a:pt x="12491" y="12347"/>
                  <a:pt x="12469" y="12379"/>
                  <a:pt x="12452" y="12427"/>
                </a:cubicBezTo>
                <a:cubicBezTo>
                  <a:pt x="12421" y="12511"/>
                  <a:pt x="12383" y="12585"/>
                  <a:pt x="12378" y="12675"/>
                </a:cubicBezTo>
                <a:cubicBezTo>
                  <a:pt x="12374" y="12760"/>
                  <a:pt x="12428" y="12770"/>
                  <a:pt x="12502" y="12774"/>
                </a:cubicBezTo>
                <a:cubicBezTo>
                  <a:pt x="12576" y="12778"/>
                  <a:pt x="12629" y="12754"/>
                  <a:pt x="12700" y="12750"/>
                </a:cubicBezTo>
                <a:cubicBezTo>
                  <a:pt x="12763" y="12747"/>
                  <a:pt x="12797" y="12768"/>
                  <a:pt x="12849" y="12774"/>
                </a:cubicBezTo>
                <a:cubicBezTo>
                  <a:pt x="12894" y="12779"/>
                  <a:pt x="12909" y="12758"/>
                  <a:pt x="12923" y="12799"/>
                </a:cubicBezTo>
              </a:path>
              <a:path w="2407" h="1688">
                <a:moveTo>
                  <a:pt x="12675" y="12700"/>
                </a:moveTo>
                <a:cubicBezTo>
                  <a:pt x="12675" y="12619"/>
                  <a:pt x="12675" y="12796"/>
                  <a:pt x="12675" y="12799"/>
                </a:cubicBezTo>
                <a:cubicBezTo>
                  <a:pt x="12675" y="12857"/>
                  <a:pt x="12675" y="12915"/>
                  <a:pt x="12675" y="12973"/>
                </a:cubicBezTo>
              </a:path>
              <a:path w="2407" h="1688">
                <a:moveTo>
                  <a:pt x="12998" y="12551"/>
                </a:moveTo>
                <a:cubicBezTo>
                  <a:pt x="12990" y="12551"/>
                  <a:pt x="12981" y="12551"/>
                  <a:pt x="12973" y="12551"/>
                </a:cubicBezTo>
                <a:cubicBezTo>
                  <a:pt x="12986" y="12499"/>
                  <a:pt x="13010" y="12502"/>
                  <a:pt x="13047" y="12477"/>
                </a:cubicBezTo>
                <a:cubicBezTo>
                  <a:pt x="13102" y="12440"/>
                  <a:pt x="13120" y="12448"/>
                  <a:pt x="13171" y="12477"/>
                </a:cubicBezTo>
                <a:cubicBezTo>
                  <a:pt x="13227" y="12509"/>
                  <a:pt x="13241" y="12553"/>
                  <a:pt x="13221" y="12626"/>
                </a:cubicBezTo>
                <a:cubicBezTo>
                  <a:pt x="13203" y="12689"/>
                  <a:pt x="13154" y="12745"/>
                  <a:pt x="13122" y="12799"/>
                </a:cubicBezTo>
                <a:cubicBezTo>
                  <a:pt x="13094" y="12847"/>
                  <a:pt x="13084" y="12895"/>
                  <a:pt x="13146" y="12923"/>
                </a:cubicBezTo>
                <a:cubicBezTo>
                  <a:pt x="13182" y="12939"/>
                  <a:pt x="13301" y="12941"/>
                  <a:pt x="13345" y="12948"/>
                </a:cubicBezTo>
                <a:cubicBezTo>
                  <a:pt x="13409" y="12959"/>
                  <a:pt x="13439" y="12940"/>
                  <a:pt x="13494" y="12973"/>
                </a:cubicBezTo>
              </a:path>
              <a:path w="2407" h="1688">
                <a:moveTo>
                  <a:pt x="13717" y="12774"/>
                </a:moveTo>
                <a:cubicBezTo>
                  <a:pt x="13742" y="12774"/>
                  <a:pt x="13750" y="12774"/>
                  <a:pt x="13742" y="12799"/>
                </a:cubicBezTo>
              </a:path>
              <a:path w="2407" h="1688">
                <a:moveTo>
                  <a:pt x="14039" y="12477"/>
                </a:moveTo>
                <a:cubicBezTo>
                  <a:pt x="14071" y="12403"/>
                  <a:pt x="14086" y="12397"/>
                  <a:pt x="14039" y="12452"/>
                </a:cubicBezTo>
                <a:cubicBezTo>
                  <a:pt x="13993" y="12505"/>
                  <a:pt x="13990" y="12503"/>
                  <a:pt x="13990" y="12576"/>
                </a:cubicBezTo>
                <a:cubicBezTo>
                  <a:pt x="13990" y="12644"/>
                  <a:pt x="14094" y="12638"/>
                  <a:pt x="14139" y="12650"/>
                </a:cubicBezTo>
                <a:cubicBezTo>
                  <a:pt x="14182" y="12661"/>
                  <a:pt x="14317" y="12670"/>
                  <a:pt x="14337" y="12725"/>
                </a:cubicBezTo>
                <a:cubicBezTo>
                  <a:pt x="14346" y="12749"/>
                  <a:pt x="14346" y="12838"/>
                  <a:pt x="14312" y="12849"/>
                </a:cubicBezTo>
                <a:cubicBezTo>
                  <a:pt x="14253" y="12867"/>
                  <a:pt x="14191" y="12836"/>
                  <a:pt x="14139" y="12824"/>
                </a:cubicBezTo>
                <a:cubicBezTo>
                  <a:pt x="14131" y="12824"/>
                  <a:pt x="14122" y="12824"/>
                  <a:pt x="14114" y="12824"/>
                </a:cubicBezTo>
              </a:path>
              <a:path w="2407" h="1688">
                <a:moveTo>
                  <a:pt x="14486" y="12526"/>
                </a:moveTo>
                <a:cubicBezTo>
                  <a:pt x="14486" y="12501"/>
                  <a:pt x="14486" y="12477"/>
                  <a:pt x="14486" y="12452"/>
                </a:cubicBezTo>
                <a:cubicBezTo>
                  <a:pt x="14424" y="12464"/>
                  <a:pt x="14379" y="12477"/>
                  <a:pt x="14312" y="12477"/>
                </a:cubicBezTo>
              </a:path>
              <a:path w="2407" h="1688">
                <a:moveTo>
                  <a:pt x="14759" y="13345"/>
                </a:moveTo>
                <a:cubicBezTo>
                  <a:pt x="14744" y="13294"/>
                  <a:pt x="14768" y="13289"/>
                  <a:pt x="14709" y="13271"/>
                </a:cubicBezTo>
                <a:cubicBezTo>
                  <a:pt x="14657" y="13255"/>
                  <a:pt x="14563" y="13253"/>
                  <a:pt x="14511" y="13246"/>
                </a:cubicBezTo>
                <a:cubicBezTo>
                  <a:pt x="14414" y="13233"/>
                  <a:pt x="14310" y="13225"/>
                  <a:pt x="14213" y="13221"/>
                </a:cubicBezTo>
                <a:cubicBezTo>
                  <a:pt x="13834" y="13207"/>
                  <a:pt x="13409" y="13196"/>
                  <a:pt x="13047" y="13246"/>
                </a:cubicBezTo>
                <a:cubicBezTo>
                  <a:pt x="12998" y="13253"/>
                  <a:pt x="12944" y="13265"/>
                  <a:pt x="12898" y="13271"/>
                </a:cubicBezTo>
                <a:cubicBezTo>
                  <a:pt x="12846" y="13278"/>
                  <a:pt x="12800" y="13288"/>
                  <a:pt x="12750" y="13295"/>
                </a:cubicBezTo>
                <a:cubicBezTo>
                  <a:pt x="12693" y="13303"/>
                  <a:pt x="12662" y="13317"/>
                  <a:pt x="12601" y="13320"/>
                </a:cubicBezTo>
                <a:cubicBezTo>
                  <a:pt x="12519" y="13324"/>
                  <a:pt x="12426" y="13331"/>
                  <a:pt x="12378" y="13345"/>
                </a:cubicBezTo>
                <a:cubicBezTo>
                  <a:pt x="12370" y="13345"/>
                  <a:pt x="12361" y="13345"/>
                  <a:pt x="12353" y="13345"/>
                </a:cubicBezTo>
              </a:path>
              <a:path w="2407" h="1688">
                <a:moveTo>
                  <a:pt x="12948" y="13618"/>
                </a:moveTo>
                <a:cubicBezTo>
                  <a:pt x="12973" y="13618"/>
                  <a:pt x="12981" y="13618"/>
                  <a:pt x="12973" y="13593"/>
                </a:cubicBezTo>
                <a:cubicBezTo>
                  <a:pt x="12964" y="13565"/>
                  <a:pt x="12917" y="13550"/>
                  <a:pt x="12874" y="13568"/>
                </a:cubicBezTo>
                <a:cubicBezTo>
                  <a:pt x="12828" y="13587"/>
                  <a:pt x="12762" y="13638"/>
                  <a:pt x="12750" y="13692"/>
                </a:cubicBezTo>
                <a:cubicBezTo>
                  <a:pt x="12737" y="13748"/>
                  <a:pt x="12768" y="13777"/>
                  <a:pt x="12799" y="13816"/>
                </a:cubicBezTo>
                <a:cubicBezTo>
                  <a:pt x="12861" y="13800"/>
                  <a:pt x="12883" y="13765"/>
                  <a:pt x="12923" y="13717"/>
                </a:cubicBezTo>
                <a:cubicBezTo>
                  <a:pt x="12949" y="13686"/>
                  <a:pt x="12963" y="13676"/>
                  <a:pt x="12998" y="13667"/>
                </a:cubicBezTo>
                <a:cubicBezTo>
                  <a:pt x="13010" y="13728"/>
                  <a:pt x="13030" y="13807"/>
                  <a:pt x="13047" y="13866"/>
                </a:cubicBezTo>
                <a:cubicBezTo>
                  <a:pt x="13059" y="13907"/>
                  <a:pt x="13074" y="13934"/>
                  <a:pt x="13097" y="13965"/>
                </a:cubicBezTo>
              </a:path>
              <a:path w="2407" h="1688">
                <a:moveTo>
                  <a:pt x="13370" y="13915"/>
                </a:moveTo>
                <a:cubicBezTo>
                  <a:pt x="13378" y="13923"/>
                  <a:pt x="13387" y="13932"/>
                  <a:pt x="13395" y="13940"/>
                </a:cubicBezTo>
              </a:path>
              <a:path w="2407" h="1688">
                <a:moveTo>
                  <a:pt x="13667" y="13593"/>
                </a:moveTo>
                <a:cubicBezTo>
                  <a:pt x="13667" y="13576"/>
                  <a:pt x="13667" y="13560"/>
                  <a:pt x="13667" y="13543"/>
                </a:cubicBezTo>
                <a:cubicBezTo>
                  <a:pt x="13642" y="13578"/>
                  <a:pt x="13608" y="13622"/>
                  <a:pt x="13593" y="13667"/>
                </a:cubicBezTo>
                <a:cubicBezTo>
                  <a:pt x="13578" y="13711"/>
                  <a:pt x="13663" y="13755"/>
                  <a:pt x="13692" y="13767"/>
                </a:cubicBezTo>
                <a:cubicBezTo>
                  <a:pt x="13771" y="13799"/>
                  <a:pt x="13842" y="13790"/>
                  <a:pt x="13915" y="13841"/>
                </a:cubicBezTo>
                <a:cubicBezTo>
                  <a:pt x="13941" y="13859"/>
                  <a:pt x="13986" y="13903"/>
                  <a:pt x="13965" y="13940"/>
                </a:cubicBezTo>
                <a:cubicBezTo>
                  <a:pt x="13932" y="13999"/>
                  <a:pt x="13823" y="14003"/>
                  <a:pt x="13767" y="13990"/>
                </a:cubicBezTo>
                <a:cubicBezTo>
                  <a:pt x="13703" y="13975"/>
                  <a:pt x="13664" y="13961"/>
                  <a:pt x="13618" y="13915"/>
                </a:cubicBezTo>
              </a:path>
              <a:path w="2407" h="1688">
                <a:moveTo>
                  <a:pt x="14039" y="13494"/>
                </a:moveTo>
                <a:cubicBezTo>
                  <a:pt x="14039" y="13469"/>
                  <a:pt x="14039" y="13461"/>
                  <a:pt x="14039" y="13444"/>
                </a:cubicBezTo>
                <a:cubicBezTo>
                  <a:pt x="13979" y="13481"/>
                  <a:pt x="13890" y="13494"/>
                  <a:pt x="13816" y="13519"/>
                </a:cubicBezTo>
              </a:path>
              <a:path w="2407" h="1688">
                <a:moveTo>
                  <a:pt x="14436" y="12402"/>
                </a:moveTo>
                <a:cubicBezTo>
                  <a:pt x="14316" y="12402"/>
                  <a:pt x="14196" y="12399"/>
                  <a:pt x="14089" y="12378"/>
                </a:cubicBezTo>
                <a:cubicBezTo>
                  <a:pt x="14056" y="12372"/>
                  <a:pt x="13998" y="12378"/>
                  <a:pt x="13965" y="123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50000" y="2928960"/>
            <a:ext cx="1090800" cy="982800"/>
          </a:xfrm>
          <a:custGeom>
            <a:avLst/>
            <a:gdLst/>
            <a:ahLst/>
            <a:rect l="l" t="t" r="r" b="b"/>
            <a:pathLst>
              <a:path w="3028" h="2729">
                <a:moveTo>
                  <a:pt x="20241" y="8310"/>
                </a:moveTo>
                <a:cubicBezTo>
                  <a:pt x="20200" y="8255"/>
                  <a:pt x="20234" y="8269"/>
                  <a:pt x="20241" y="8210"/>
                </a:cubicBezTo>
                <a:cubicBezTo>
                  <a:pt x="20241" y="8202"/>
                  <a:pt x="20241" y="8194"/>
                  <a:pt x="20241" y="8186"/>
                </a:cubicBezTo>
                <a:cubicBezTo>
                  <a:pt x="20241" y="8274"/>
                  <a:pt x="20234" y="8346"/>
                  <a:pt x="20216" y="8434"/>
                </a:cubicBezTo>
                <a:cubicBezTo>
                  <a:pt x="20187" y="8576"/>
                  <a:pt x="20191" y="8710"/>
                  <a:pt x="20191" y="8855"/>
                </a:cubicBezTo>
                <a:cubicBezTo>
                  <a:pt x="20191" y="8863"/>
                  <a:pt x="20191" y="8872"/>
                  <a:pt x="20191" y="8880"/>
                </a:cubicBezTo>
              </a:path>
              <a:path w="3028" h="2729">
                <a:moveTo>
                  <a:pt x="20141" y="8384"/>
                </a:moveTo>
                <a:cubicBezTo>
                  <a:pt x="20141" y="8316"/>
                  <a:pt x="20129" y="8275"/>
                  <a:pt x="20191" y="8235"/>
                </a:cubicBezTo>
                <a:cubicBezTo>
                  <a:pt x="20251" y="8197"/>
                  <a:pt x="20310" y="8122"/>
                  <a:pt x="20389" y="8136"/>
                </a:cubicBezTo>
                <a:cubicBezTo>
                  <a:pt x="20548" y="8164"/>
                  <a:pt x="20581" y="8271"/>
                  <a:pt x="20613" y="8409"/>
                </a:cubicBezTo>
                <a:cubicBezTo>
                  <a:pt x="20646" y="8549"/>
                  <a:pt x="20673" y="8709"/>
                  <a:pt x="20588" y="8830"/>
                </a:cubicBezTo>
                <a:cubicBezTo>
                  <a:pt x="20515" y="8935"/>
                  <a:pt x="20394" y="8908"/>
                  <a:pt x="20290" y="8880"/>
                </a:cubicBezTo>
                <a:cubicBezTo>
                  <a:pt x="20218" y="8860"/>
                  <a:pt x="20178" y="8819"/>
                  <a:pt x="20117" y="8781"/>
                </a:cubicBezTo>
              </a:path>
              <a:path w="3028" h="2729">
                <a:moveTo>
                  <a:pt x="19372" y="9947"/>
                </a:moveTo>
                <a:cubicBezTo>
                  <a:pt x="19413" y="9906"/>
                  <a:pt x="19475" y="9852"/>
                  <a:pt x="19496" y="9798"/>
                </a:cubicBezTo>
                <a:cubicBezTo>
                  <a:pt x="19496" y="9790"/>
                  <a:pt x="19496" y="9781"/>
                  <a:pt x="19496" y="9773"/>
                </a:cubicBezTo>
                <a:cubicBezTo>
                  <a:pt x="19440" y="9773"/>
                  <a:pt x="19398" y="9767"/>
                  <a:pt x="19348" y="9798"/>
                </a:cubicBezTo>
                <a:cubicBezTo>
                  <a:pt x="19263" y="9851"/>
                  <a:pt x="19301" y="9918"/>
                  <a:pt x="19348" y="9971"/>
                </a:cubicBezTo>
                <a:cubicBezTo>
                  <a:pt x="19428" y="10061"/>
                  <a:pt x="19530" y="10075"/>
                  <a:pt x="19621" y="10145"/>
                </a:cubicBezTo>
                <a:cubicBezTo>
                  <a:pt x="19671" y="10184"/>
                  <a:pt x="19788" y="10318"/>
                  <a:pt x="19745" y="10393"/>
                </a:cubicBezTo>
                <a:cubicBezTo>
                  <a:pt x="19714" y="10448"/>
                  <a:pt x="19597" y="10454"/>
                  <a:pt x="19546" y="10443"/>
                </a:cubicBezTo>
                <a:cubicBezTo>
                  <a:pt x="19468" y="10417"/>
                  <a:pt x="19440" y="10406"/>
                  <a:pt x="19397" y="10368"/>
                </a:cubicBezTo>
              </a:path>
              <a:path w="3028" h="2729">
                <a:moveTo>
                  <a:pt x="21679" y="9649"/>
                </a:moveTo>
                <a:cubicBezTo>
                  <a:pt x="21551" y="9649"/>
                  <a:pt x="21432" y="9653"/>
                  <a:pt x="21307" y="9624"/>
                </a:cubicBezTo>
                <a:cubicBezTo>
                  <a:pt x="21178" y="9594"/>
                  <a:pt x="21042" y="9579"/>
                  <a:pt x="20910" y="9575"/>
                </a:cubicBezTo>
                <a:cubicBezTo>
                  <a:pt x="20843" y="9573"/>
                  <a:pt x="20801" y="9558"/>
                  <a:pt x="20737" y="9550"/>
                </a:cubicBezTo>
              </a:path>
              <a:path w="3028" h="2729">
                <a:moveTo>
                  <a:pt x="21034" y="9599"/>
                </a:moveTo>
                <a:cubicBezTo>
                  <a:pt x="21106" y="9671"/>
                  <a:pt x="21069" y="9694"/>
                  <a:pt x="21084" y="9798"/>
                </a:cubicBezTo>
                <a:cubicBezTo>
                  <a:pt x="21106" y="9948"/>
                  <a:pt x="21109" y="10091"/>
                  <a:pt x="21109" y="10244"/>
                </a:cubicBezTo>
                <a:cubicBezTo>
                  <a:pt x="21109" y="10269"/>
                  <a:pt x="21109" y="10294"/>
                  <a:pt x="21109" y="10319"/>
                </a:cubicBezTo>
              </a:path>
              <a:path w="3028" h="2729">
                <a:moveTo>
                  <a:pt x="21654" y="9178"/>
                </a:moveTo>
                <a:cubicBezTo>
                  <a:pt x="21677" y="9178"/>
                  <a:pt x="21812" y="9178"/>
                  <a:pt x="21754" y="9178"/>
                </a:cubicBezTo>
                <a:cubicBezTo>
                  <a:pt x="21680" y="9178"/>
                  <a:pt x="21628" y="9164"/>
                  <a:pt x="21555" y="9153"/>
                </a:cubicBezTo>
                <a:cubicBezTo>
                  <a:pt x="21451" y="9138"/>
                  <a:pt x="21338" y="9131"/>
                  <a:pt x="21233" y="9128"/>
                </a:cubicBezTo>
                <a:cubicBezTo>
                  <a:pt x="21081" y="9124"/>
                  <a:pt x="20936" y="9089"/>
                  <a:pt x="20786" y="9079"/>
                </a:cubicBezTo>
                <a:cubicBezTo>
                  <a:pt x="20375" y="9051"/>
                  <a:pt x="19926" y="9059"/>
                  <a:pt x="19521" y="9103"/>
                </a:cubicBezTo>
                <a:cubicBezTo>
                  <a:pt x="19365" y="9120"/>
                  <a:pt x="19201" y="9109"/>
                  <a:pt x="19050" y="9128"/>
                </a:cubicBezTo>
                <a:cubicBezTo>
                  <a:pt x="18954" y="9140"/>
                  <a:pt x="18849" y="9128"/>
                  <a:pt x="18752" y="9128"/>
                </a:cubicBezTo>
              </a:path>
              <a:path w="3028" h="2729">
                <a:moveTo>
                  <a:pt x="20315" y="9054"/>
                </a:moveTo>
                <a:cubicBezTo>
                  <a:pt x="20341" y="9096"/>
                  <a:pt x="20337" y="9102"/>
                  <a:pt x="20340" y="9153"/>
                </a:cubicBezTo>
                <a:cubicBezTo>
                  <a:pt x="20349" y="9320"/>
                  <a:pt x="20348" y="9484"/>
                  <a:pt x="20365" y="9649"/>
                </a:cubicBezTo>
                <a:cubicBezTo>
                  <a:pt x="20379" y="9791"/>
                  <a:pt x="20389" y="9927"/>
                  <a:pt x="20389" y="10071"/>
                </a:cubicBezTo>
                <a:cubicBezTo>
                  <a:pt x="20389" y="10222"/>
                  <a:pt x="20414" y="10365"/>
                  <a:pt x="20414" y="10517"/>
                </a:cubicBezTo>
                <a:cubicBezTo>
                  <a:pt x="20414" y="10631"/>
                  <a:pt x="20431" y="10707"/>
                  <a:pt x="20414" y="10815"/>
                </a:cubicBezTo>
                <a:cubicBezTo>
                  <a:pt x="20414" y="10840"/>
                  <a:pt x="20414" y="10848"/>
                  <a:pt x="20414" y="108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03200" y="4830840"/>
            <a:ext cx="376200" cy="206280"/>
          </a:xfrm>
          <a:custGeom>
            <a:avLst/>
            <a:gdLst/>
            <a:ahLst/>
            <a:rect l="l" t="t" r="r" b="b"/>
            <a:pathLst>
              <a:path w="1043" h="572">
                <a:moveTo>
                  <a:pt x="4018" y="13494"/>
                </a:moveTo>
                <a:cubicBezTo>
                  <a:pt x="4054" y="13458"/>
                  <a:pt x="4129" y="13419"/>
                  <a:pt x="4093" y="13419"/>
                </a:cubicBezTo>
                <a:cubicBezTo>
                  <a:pt x="4018" y="13419"/>
                  <a:pt x="3967" y="13421"/>
                  <a:pt x="3894" y="13444"/>
                </a:cubicBezTo>
                <a:cubicBezTo>
                  <a:pt x="3822" y="13466"/>
                  <a:pt x="3740" y="13494"/>
                  <a:pt x="3671" y="13519"/>
                </a:cubicBezTo>
                <a:cubicBezTo>
                  <a:pt x="3654" y="13527"/>
                  <a:pt x="3638" y="13535"/>
                  <a:pt x="3621" y="13543"/>
                </a:cubicBezTo>
              </a:path>
              <a:path w="1043" h="572">
                <a:moveTo>
                  <a:pt x="3696" y="13469"/>
                </a:moveTo>
                <a:cubicBezTo>
                  <a:pt x="3777" y="13561"/>
                  <a:pt x="3790" y="13647"/>
                  <a:pt x="3820" y="13767"/>
                </a:cubicBezTo>
                <a:cubicBezTo>
                  <a:pt x="3841" y="13849"/>
                  <a:pt x="3845" y="13908"/>
                  <a:pt x="3845" y="13990"/>
                </a:cubicBezTo>
              </a:path>
              <a:path w="1043" h="572">
                <a:moveTo>
                  <a:pt x="4564" y="13643"/>
                </a:moveTo>
                <a:cubicBezTo>
                  <a:pt x="4564" y="13635"/>
                  <a:pt x="4564" y="13626"/>
                  <a:pt x="4564" y="13618"/>
                </a:cubicBezTo>
                <a:cubicBezTo>
                  <a:pt x="4507" y="13626"/>
                  <a:pt x="4491" y="13662"/>
                  <a:pt x="4440" y="13667"/>
                </a:cubicBezTo>
                <a:cubicBezTo>
                  <a:pt x="4415" y="13667"/>
                  <a:pt x="4407" y="13667"/>
                  <a:pt x="4390" y="13667"/>
                </a:cubicBezTo>
              </a:path>
              <a:path w="1043" h="572">
                <a:moveTo>
                  <a:pt x="4589" y="13742"/>
                </a:moveTo>
                <a:cubicBezTo>
                  <a:pt x="4647" y="13750"/>
                  <a:pt x="4649" y="13736"/>
                  <a:pt x="4663" y="13791"/>
                </a:cubicBezTo>
                <a:cubicBezTo>
                  <a:pt x="4615" y="13791"/>
                  <a:pt x="4614" y="13794"/>
                  <a:pt x="4564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87840" y="5545080"/>
            <a:ext cx="108000" cy="6372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10492" y="15404"/>
                </a:moveTo>
                <a:cubicBezTo>
                  <a:pt x="10500" y="15404"/>
                  <a:pt x="10509" y="15404"/>
                  <a:pt x="10517" y="15404"/>
                </a:cubicBezTo>
                <a:cubicBezTo>
                  <a:pt x="10499" y="15459"/>
                  <a:pt x="10482" y="15417"/>
                  <a:pt x="10443" y="15404"/>
                </a:cubicBezTo>
                <a:cubicBezTo>
                  <a:pt x="10390" y="15386"/>
                  <a:pt x="10301" y="15404"/>
                  <a:pt x="10244" y="15404"/>
                </a:cubicBezTo>
              </a:path>
              <a:path w="299" h="174">
                <a:moveTo>
                  <a:pt x="10517" y="15528"/>
                </a:moveTo>
                <a:cubicBezTo>
                  <a:pt x="10525" y="15528"/>
                  <a:pt x="10534" y="15528"/>
                  <a:pt x="10542" y="15528"/>
                </a:cubicBezTo>
                <a:cubicBezTo>
                  <a:pt x="10527" y="15588"/>
                  <a:pt x="10503" y="15577"/>
                  <a:pt x="10443" y="15577"/>
                </a:cubicBezTo>
                <a:cubicBezTo>
                  <a:pt x="10372" y="15577"/>
                  <a:pt x="10333" y="15562"/>
                  <a:pt x="10269" y="155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59160" y="5348160"/>
            <a:ext cx="741600" cy="233640"/>
          </a:xfrm>
          <a:custGeom>
            <a:avLst/>
            <a:gdLst/>
            <a:ahLst/>
            <a:rect l="l" t="t" r="r" b="b"/>
            <a:pathLst>
              <a:path w="2060" h="646">
                <a:moveTo>
                  <a:pt x="11906" y="14957"/>
                </a:moveTo>
                <a:cubicBezTo>
                  <a:pt x="11929" y="14934"/>
                  <a:pt x="11933" y="14926"/>
                  <a:pt x="11956" y="14932"/>
                </a:cubicBezTo>
                <a:cubicBezTo>
                  <a:pt x="11926" y="14972"/>
                  <a:pt x="11880" y="15036"/>
                  <a:pt x="11857" y="15081"/>
                </a:cubicBezTo>
                <a:cubicBezTo>
                  <a:pt x="11823" y="15146"/>
                  <a:pt x="11832" y="15211"/>
                  <a:pt x="11832" y="15280"/>
                </a:cubicBezTo>
                <a:cubicBezTo>
                  <a:pt x="11832" y="15362"/>
                  <a:pt x="11860" y="15354"/>
                  <a:pt x="11931" y="15354"/>
                </a:cubicBezTo>
                <a:cubicBezTo>
                  <a:pt x="11996" y="15354"/>
                  <a:pt x="12284" y="15322"/>
                  <a:pt x="12303" y="15379"/>
                </a:cubicBezTo>
              </a:path>
              <a:path w="2060" h="646">
                <a:moveTo>
                  <a:pt x="12105" y="15230"/>
                </a:moveTo>
                <a:cubicBezTo>
                  <a:pt x="12097" y="15230"/>
                  <a:pt x="12088" y="15230"/>
                  <a:pt x="12080" y="15230"/>
                </a:cubicBezTo>
                <a:cubicBezTo>
                  <a:pt x="12080" y="15283"/>
                  <a:pt x="12064" y="15303"/>
                  <a:pt x="12055" y="15354"/>
                </a:cubicBezTo>
                <a:cubicBezTo>
                  <a:pt x="12045" y="15411"/>
                  <a:pt x="12043" y="15453"/>
                  <a:pt x="12030" y="15503"/>
                </a:cubicBezTo>
              </a:path>
              <a:path w="2060" h="646">
                <a:moveTo>
                  <a:pt x="12551" y="15404"/>
                </a:moveTo>
                <a:lnTo>
                  <a:pt x="12551" y="15404"/>
                </a:lnTo>
                <a:lnTo>
                  <a:pt x="12551" y="15404"/>
                </a:lnTo>
              </a:path>
              <a:path w="2060" h="646">
                <a:moveTo>
                  <a:pt x="12923" y="14982"/>
                </a:moveTo>
                <a:cubicBezTo>
                  <a:pt x="12923" y="14923"/>
                  <a:pt x="12901" y="15042"/>
                  <a:pt x="12898" y="15056"/>
                </a:cubicBezTo>
                <a:cubicBezTo>
                  <a:pt x="12884" y="15124"/>
                  <a:pt x="12874" y="15184"/>
                  <a:pt x="12874" y="15255"/>
                </a:cubicBezTo>
                <a:cubicBezTo>
                  <a:pt x="12874" y="15295"/>
                  <a:pt x="12879" y="15335"/>
                  <a:pt x="12923" y="15354"/>
                </a:cubicBezTo>
                <a:cubicBezTo>
                  <a:pt x="12963" y="15372"/>
                  <a:pt x="13039" y="15351"/>
                  <a:pt x="13072" y="15329"/>
                </a:cubicBezTo>
                <a:cubicBezTo>
                  <a:pt x="13125" y="15294"/>
                  <a:pt x="13163" y="15323"/>
                  <a:pt x="13221" y="15304"/>
                </a:cubicBezTo>
                <a:cubicBezTo>
                  <a:pt x="13274" y="15287"/>
                  <a:pt x="13290" y="15280"/>
                  <a:pt x="13345" y="15280"/>
                </a:cubicBezTo>
                <a:cubicBezTo>
                  <a:pt x="13370" y="15280"/>
                  <a:pt x="13378" y="15280"/>
                  <a:pt x="13395" y="15280"/>
                </a:cubicBezTo>
              </a:path>
              <a:path w="2060" h="646">
                <a:moveTo>
                  <a:pt x="13146" y="15131"/>
                </a:moveTo>
                <a:cubicBezTo>
                  <a:pt x="13130" y="15131"/>
                  <a:pt x="13113" y="15131"/>
                  <a:pt x="13097" y="15131"/>
                </a:cubicBezTo>
                <a:cubicBezTo>
                  <a:pt x="13097" y="15221"/>
                  <a:pt x="13103" y="15295"/>
                  <a:pt x="13122" y="15379"/>
                </a:cubicBezTo>
                <a:cubicBezTo>
                  <a:pt x="13122" y="15387"/>
                  <a:pt x="13122" y="15396"/>
                  <a:pt x="13122" y="15404"/>
                </a:cubicBezTo>
              </a:path>
              <a:path w="2060" h="646">
                <a:moveTo>
                  <a:pt x="13395" y="14908"/>
                </a:moveTo>
                <a:cubicBezTo>
                  <a:pt x="13412" y="14854"/>
                  <a:pt x="13445" y="14896"/>
                  <a:pt x="13494" y="14908"/>
                </a:cubicBezTo>
                <a:cubicBezTo>
                  <a:pt x="13554" y="14923"/>
                  <a:pt x="13657" y="14865"/>
                  <a:pt x="13717" y="14858"/>
                </a:cubicBezTo>
                <a:cubicBezTo>
                  <a:pt x="13764" y="14852"/>
                  <a:pt x="13872" y="14842"/>
                  <a:pt x="13891" y="14908"/>
                </a:cubicBezTo>
                <a:cubicBezTo>
                  <a:pt x="13915" y="14992"/>
                  <a:pt x="13871" y="15105"/>
                  <a:pt x="13841" y="15180"/>
                </a:cubicBezTo>
                <a:cubicBezTo>
                  <a:pt x="13815" y="15246"/>
                  <a:pt x="13780" y="15310"/>
                  <a:pt x="13767" y="153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actic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9, Student Asst 4, Q2, 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77, Q3, 4, 5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9, Q1, 5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03800" y="4276800"/>
            <a:ext cx="19080" cy="1440"/>
          </a:xfrm>
          <a:custGeom>
            <a:avLst/>
            <a:gdLst/>
            <a:ahLst/>
            <a:rect l="l" t="t" r="r" b="b"/>
            <a:pathLst>
              <a:path w="50" h="1">
                <a:moveTo>
                  <a:pt x="12005" y="11881"/>
                </a:moveTo>
                <a:cubicBezTo>
                  <a:pt x="11989" y="11881"/>
                  <a:pt x="11972" y="11881"/>
                  <a:pt x="11956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Venn Diagrams and Set No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– a collection of objects, usually that satisfy a certain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55912" t="9485" r="7176" b="25393"/>
          <a:stretch/>
        </p:blipFill>
        <p:spPr>
          <a:xfrm>
            <a:off x="4865760" y="1197000"/>
            <a:ext cx="42782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Venn Diagrams and Set No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00280"/>
            <a:ext cx="395928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1844640"/>
            <a:ext cx="151272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4360" y="1844640"/>
            <a:ext cx="151272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7280" y="1784520"/>
            <a:ext cx="108000" cy="22356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3448" y="5904"/>
                </a:moveTo>
                <a:cubicBezTo>
                  <a:pt x="3448" y="5916"/>
                  <a:pt x="3448" y="6020"/>
                  <a:pt x="3448" y="5953"/>
                </a:cubicBezTo>
                <a:cubicBezTo>
                  <a:pt x="3448" y="5905"/>
                  <a:pt x="3459" y="5848"/>
                  <a:pt x="3473" y="5804"/>
                </a:cubicBezTo>
                <a:cubicBezTo>
                  <a:pt x="3498" y="5728"/>
                  <a:pt x="3535" y="5637"/>
                  <a:pt x="3547" y="5556"/>
                </a:cubicBezTo>
                <a:cubicBezTo>
                  <a:pt x="3554" y="5512"/>
                  <a:pt x="3560" y="5390"/>
                  <a:pt x="3597" y="5358"/>
                </a:cubicBezTo>
                <a:cubicBezTo>
                  <a:pt x="3605" y="5358"/>
                  <a:pt x="3613" y="5358"/>
                  <a:pt x="3621" y="5358"/>
                </a:cubicBezTo>
                <a:cubicBezTo>
                  <a:pt x="3645" y="5366"/>
                  <a:pt x="3666" y="5417"/>
                  <a:pt x="3671" y="5457"/>
                </a:cubicBezTo>
                <a:cubicBezTo>
                  <a:pt x="3684" y="5549"/>
                  <a:pt x="3707" y="5641"/>
                  <a:pt x="3721" y="5730"/>
                </a:cubicBezTo>
                <a:cubicBezTo>
                  <a:pt x="3729" y="5782"/>
                  <a:pt x="3746" y="5826"/>
                  <a:pt x="3746" y="5879"/>
                </a:cubicBezTo>
                <a:cubicBezTo>
                  <a:pt x="3746" y="5887"/>
                  <a:pt x="3746" y="5896"/>
                  <a:pt x="3746" y="5904"/>
                </a:cubicBezTo>
              </a:path>
              <a:path w="299" h="621">
                <a:moveTo>
                  <a:pt x="3671" y="5730"/>
                </a:moveTo>
                <a:cubicBezTo>
                  <a:pt x="3671" y="5722"/>
                  <a:pt x="3671" y="5713"/>
                  <a:pt x="3671" y="5705"/>
                </a:cubicBezTo>
                <a:cubicBezTo>
                  <a:pt x="3638" y="5705"/>
                  <a:pt x="3605" y="5705"/>
                  <a:pt x="3572" y="57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59200" y="1757520"/>
            <a:ext cx="108000" cy="19656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0120" y="5531"/>
                </a:moveTo>
                <a:cubicBezTo>
                  <a:pt x="10154" y="5453"/>
                  <a:pt x="10145" y="5443"/>
                  <a:pt x="10145" y="5531"/>
                </a:cubicBezTo>
                <a:cubicBezTo>
                  <a:pt x="10145" y="5630"/>
                  <a:pt x="10145" y="5730"/>
                  <a:pt x="10145" y="5829"/>
                </a:cubicBezTo>
              </a:path>
              <a:path w="299" h="547">
                <a:moveTo>
                  <a:pt x="10120" y="5457"/>
                </a:moveTo>
                <a:cubicBezTo>
                  <a:pt x="10129" y="5393"/>
                  <a:pt x="10134" y="5385"/>
                  <a:pt x="10170" y="5358"/>
                </a:cubicBezTo>
                <a:cubicBezTo>
                  <a:pt x="10207" y="5330"/>
                  <a:pt x="10221" y="5286"/>
                  <a:pt x="10269" y="5283"/>
                </a:cubicBezTo>
                <a:cubicBezTo>
                  <a:pt x="10296" y="5281"/>
                  <a:pt x="10381" y="5268"/>
                  <a:pt x="10393" y="5308"/>
                </a:cubicBezTo>
                <a:cubicBezTo>
                  <a:pt x="10408" y="5359"/>
                  <a:pt x="10386" y="5405"/>
                  <a:pt x="10344" y="5432"/>
                </a:cubicBezTo>
                <a:cubicBezTo>
                  <a:pt x="10289" y="5468"/>
                  <a:pt x="10242" y="5488"/>
                  <a:pt x="10220" y="5556"/>
                </a:cubicBezTo>
                <a:cubicBezTo>
                  <a:pt x="10220" y="5564"/>
                  <a:pt x="10220" y="5573"/>
                  <a:pt x="10220" y="5581"/>
                </a:cubicBezTo>
                <a:cubicBezTo>
                  <a:pt x="10260" y="5581"/>
                  <a:pt x="10313" y="5587"/>
                  <a:pt x="10344" y="5606"/>
                </a:cubicBezTo>
                <a:cubicBezTo>
                  <a:pt x="10377" y="5626"/>
                  <a:pt x="10414" y="5669"/>
                  <a:pt x="10418" y="5705"/>
                </a:cubicBezTo>
                <a:cubicBezTo>
                  <a:pt x="10423" y="5754"/>
                  <a:pt x="10376" y="5765"/>
                  <a:pt x="10344" y="5779"/>
                </a:cubicBezTo>
                <a:cubicBezTo>
                  <a:pt x="10281" y="5806"/>
                  <a:pt x="10238" y="5804"/>
                  <a:pt x="10170" y="5804"/>
                </a:cubicBezTo>
                <a:cubicBezTo>
                  <a:pt x="10162" y="5804"/>
                  <a:pt x="10153" y="5804"/>
                  <a:pt x="10145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8400" y="2444760"/>
            <a:ext cx="18720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4589" y="7218"/>
                </a:moveTo>
                <a:cubicBezTo>
                  <a:pt x="4589" y="7176"/>
                  <a:pt x="4589" y="7251"/>
                  <a:pt x="4589" y="7293"/>
                </a:cubicBezTo>
                <a:cubicBezTo>
                  <a:pt x="4589" y="7408"/>
                  <a:pt x="4589" y="7508"/>
                  <a:pt x="4614" y="7615"/>
                </a:cubicBezTo>
                <a:cubicBezTo>
                  <a:pt x="4614" y="7623"/>
                  <a:pt x="4614" y="7632"/>
                  <a:pt x="4614" y="7640"/>
                </a:cubicBezTo>
              </a:path>
              <a:path w="522" h="448">
                <a:moveTo>
                  <a:pt x="4862" y="7441"/>
                </a:moveTo>
                <a:cubicBezTo>
                  <a:pt x="4833" y="7404"/>
                  <a:pt x="4837" y="7390"/>
                  <a:pt x="4837" y="7342"/>
                </a:cubicBezTo>
                <a:cubicBezTo>
                  <a:pt x="4837" y="7287"/>
                  <a:pt x="4830" y="7267"/>
                  <a:pt x="4862" y="7243"/>
                </a:cubicBezTo>
                <a:cubicBezTo>
                  <a:pt x="4888" y="7223"/>
                  <a:pt x="4945" y="7152"/>
                  <a:pt x="4986" y="7193"/>
                </a:cubicBezTo>
                <a:cubicBezTo>
                  <a:pt x="5033" y="7240"/>
                  <a:pt x="5069" y="7339"/>
                  <a:pt x="5085" y="7392"/>
                </a:cubicBezTo>
                <a:cubicBezTo>
                  <a:pt x="5108" y="7465"/>
                  <a:pt x="5134" y="7517"/>
                  <a:pt x="5060" y="7565"/>
                </a:cubicBezTo>
                <a:cubicBezTo>
                  <a:pt x="4990" y="7610"/>
                  <a:pt x="4926" y="7585"/>
                  <a:pt x="4862" y="7541"/>
                </a:cubicBezTo>
                <a:cubicBezTo>
                  <a:pt x="4793" y="7494"/>
                  <a:pt x="4809" y="7429"/>
                  <a:pt x="4837" y="7367"/>
                </a:cubicBezTo>
                <a:cubicBezTo>
                  <a:pt x="4845" y="7350"/>
                  <a:pt x="4854" y="7334"/>
                  <a:pt x="4862" y="73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17560" y="2427120"/>
            <a:ext cx="135000" cy="17964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6697" y="7293"/>
                </a:moveTo>
                <a:cubicBezTo>
                  <a:pt x="6697" y="7301"/>
                  <a:pt x="6697" y="7309"/>
                  <a:pt x="6697" y="7317"/>
                </a:cubicBezTo>
                <a:cubicBezTo>
                  <a:pt x="6665" y="7276"/>
                  <a:pt x="6660" y="7260"/>
                  <a:pt x="6697" y="7218"/>
                </a:cubicBezTo>
                <a:cubicBezTo>
                  <a:pt x="6738" y="7172"/>
                  <a:pt x="6749" y="7186"/>
                  <a:pt x="6796" y="7169"/>
                </a:cubicBezTo>
                <a:cubicBezTo>
                  <a:pt x="6888" y="7136"/>
                  <a:pt x="6870" y="7171"/>
                  <a:pt x="6896" y="7243"/>
                </a:cubicBezTo>
                <a:cubicBezTo>
                  <a:pt x="6929" y="7335"/>
                  <a:pt x="6915" y="7375"/>
                  <a:pt x="6871" y="7466"/>
                </a:cubicBezTo>
                <a:cubicBezTo>
                  <a:pt x="6838" y="7536"/>
                  <a:pt x="6773" y="7538"/>
                  <a:pt x="6747" y="7615"/>
                </a:cubicBezTo>
                <a:cubicBezTo>
                  <a:pt x="6747" y="7623"/>
                  <a:pt x="6747" y="7632"/>
                  <a:pt x="6747" y="7640"/>
                </a:cubicBezTo>
                <a:cubicBezTo>
                  <a:pt x="6802" y="7640"/>
                  <a:pt x="6849" y="7622"/>
                  <a:pt x="6896" y="7590"/>
                </a:cubicBezTo>
                <a:cubicBezTo>
                  <a:pt x="6954" y="7550"/>
                  <a:pt x="6973" y="7541"/>
                  <a:pt x="7045" y="75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4520" y="2365200"/>
            <a:ext cx="108000" cy="204840"/>
          </a:xfrm>
          <a:custGeom>
            <a:avLst/>
            <a:gdLst/>
            <a:ahLst/>
            <a:rect l="l" t="t" r="r" b="b"/>
            <a:pathLst>
              <a:path w="299" h="572">
                <a:moveTo>
                  <a:pt x="8781" y="7069"/>
                </a:moveTo>
                <a:cubicBezTo>
                  <a:pt x="8794" y="7065"/>
                  <a:pt x="8836" y="7019"/>
                  <a:pt x="8806" y="6995"/>
                </a:cubicBezTo>
                <a:cubicBezTo>
                  <a:pt x="8793" y="6985"/>
                  <a:pt x="8730" y="6956"/>
                  <a:pt x="8706" y="6970"/>
                </a:cubicBezTo>
                <a:cubicBezTo>
                  <a:pt x="8669" y="6991"/>
                  <a:pt x="8620" y="7055"/>
                  <a:pt x="8607" y="7094"/>
                </a:cubicBezTo>
                <a:cubicBezTo>
                  <a:pt x="8594" y="7132"/>
                  <a:pt x="8609" y="7167"/>
                  <a:pt x="8632" y="7193"/>
                </a:cubicBezTo>
                <a:cubicBezTo>
                  <a:pt x="8656" y="7220"/>
                  <a:pt x="8727" y="7237"/>
                  <a:pt x="8756" y="7243"/>
                </a:cubicBezTo>
                <a:cubicBezTo>
                  <a:pt x="8848" y="7261"/>
                  <a:pt x="8826" y="7290"/>
                  <a:pt x="8880" y="7367"/>
                </a:cubicBezTo>
                <a:cubicBezTo>
                  <a:pt x="8914" y="7416"/>
                  <a:pt x="8920" y="7467"/>
                  <a:pt x="8880" y="7516"/>
                </a:cubicBezTo>
                <a:cubicBezTo>
                  <a:pt x="8853" y="7550"/>
                  <a:pt x="8772" y="7555"/>
                  <a:pt x="8731" y="7541"/>
                </a:cubicBezTo>
                <a:cubicBezTo>
                  <a:pt x="8655" y="7515"/>
                  <a:pt x="8657" y="7486"/>
                  <a:pt x="8657" y="7417"/>
                </a:cubicBezTo>
                <a:cubicBezTo>
                  <a:pt x="8657" y="7307"/>
                  <a:pt x="8707" y="7213"/>
                  <a:pt x="8756" y="7119"/>
                </a:cubicBezTo>
                <a:cubicBezTo>
                  <a:pt x="8794" y="7046"/>
                  <a:pt x="8783" y="7040"/>
                  <a:pt x="8855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1341360"/>
            <a:ext cx="482436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 or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(A)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alse – n(A) = 10+2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(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)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Arial"/>
                <a:ea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(AuB)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False – n(AuB) = n(A) + n(B) – n(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(A’)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alse - n(A’)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1360" y="3330720"/>
            <a:ext cx="169920" cy="241200"/>
          </a:xfrm>
          <a:custGeom>
            <a:avLst/>
            <a:gdLst/>
            <a:ahLst/>
            <a:rect l="l" t="t" r="r" b="b"/>
            <a:pathLst>
              <a:path w="473" h="671">
                <a:moveTo>
                  <a:pt x="9475" y="9327"/>
                </a:moveTo>
                <a:cubicBezTo>
                  <a:pt x="9475" y="9351"/>
                  <a:pt x="9475" y="9360"/>
                  <a:pt x="9475" y="9376"/>
                </a:cubicBezTo>
                <a:cubicBezTo>
                  <a:pt x="9532" y="9376"/>
                  <a:pt x="9553" y="9366"/>
                  <a:pt x="9599" y="9351"/>
                </a:cubicBezTo>
                <a:cubicBezTo>
                  <a:pt x="9652" y="9333"/>
                  <a:pt x="9702" y="9327"/>
                  <a:pt x="9748" y="9302"/>
                </a:cubicBezTo>
                <a:cubicBezTo>
                  <a:pt x="9793" y="9278"/>
                  <a:pt x="9854" y="9265"/>
                  <a:pt x="9897" y="9252"/>
                </a:cubicBezTo>
                <a:cubicBezTo>
                  <a:pt x="9905" y="9252"/>
                  <a:pt x="9914" y="9252"/>
                  <a:pt x="9922" y="9252"/>
                </a:cubicBezTo>
                <a:cubicBezTo>
                  <a:pt x="9947" y="9285"/>
                  <a:pt x="9961" y="9329"/>
                  <a:pt x="9947" y="9376"/>
                </a:cubicBezTo>
                <a:cubicBezTo>
                  <a:pt x="9918" y="9473"/>
                  <a:pt x="9863" y="9559"/>
                  <a:pt x="9823" y="9649"/>
                </a:cubicBezTo>
                <a:cubicBezTo>
                  <a:pt x="9783" y="9739"/>
                  <a:pt x="9778" y="9833"/>
                  <a:pt x="9748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Venn Diagrams and Set No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 {2, 3, 5, 7, 9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= {1, 2, 3, 5, 8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the Venn diagram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ting from the midd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 or fal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2, 3, 4}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False: 4    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A n B) ≤ { 2, 3, 5, 7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00"/>
                </a:solidFill>
                <a:latin typeface="Arial"/>
                <a:ea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A’ n B) = {1, 8, 9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False - (A’ n B’) = {1, 8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068640"/>
            <a:ext cx="395928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2560" y="3213000"/>
            <a:ext cx="151308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213000"/>
            <a:ext cx="151308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7360" y="3240000"/>
            <a:ext cx="107640" cy="22392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3448" y="5904"/>
                </a:moveTo>
                <a:cubicBezTo>
                  <a:pt x="3448" y="5916"/>
                  <a:pt x="3448" y="6020"/>
                  <a:pt x="3448" y="5953"/>
                </a:cubicBezTo>
                <a:cubicBezTo>
                  <a:pt x="3448" y="5905"/>
                  <a:pt x="3459" y="5848"/>
                  <a:pt x="3473" y="5804"/>
                </a:cubicBezTo>
                <a:cubicBezTo>
                  <a:pt x="3498" y="5728"/>
                  <a:pt x="3535" y="5637"/>
                  <a:pt x="3547" y="5556"/>
                </a:cubicBezTo>
                <a:cubicBezTo>
                  <a:pt x="3554" y="5512"/>
                  <a:pt x="3560" y="5390"/>
                  <a:pt x="3597" y="5358"/>
                </a:cubicBezTo>
                <a:cubicBezTo>
                  <a:pt x="3605" y="5358"/>
                  <a:pt x="3613" y="5358"/>
                  <a:pt x="3621" y="5358"/>
                </a:cubicBezTo>
                <a:cubicBezTo>
                  <a:pt x="3645" y="5366"/>
                  <a:pt x="3666" y="5417"/>
                  <a:pt x="3671" y="5457"/>
                </a:cubicBezTo>
                <a:cubicBezTo>
                  <a:pt x="3684" y="5549"/>
                  <a:pt x="3707" y="5641"/>
                  <a:pt x="3721" y="5730"/>
                </a:cubicBezTo>
                <a:cubicBezTo>
                  <a:pt x="3729" y="5782"/>
                  <a:pt x="3746" y="5826"/>
                  <a:pt x="3746" y="5879"/>
                </a:cubicBezTo>
                <a:cubicBezTo>
                  <a:pt x="3746" y="5887"/>
                  <a:pt x="3746" y="5896"/>
                  <a:pt x="3746" y="5904"/>
                </a:cubicBezTo>
              </a:path>
              <a:path w="299" h="621">
                <a:moveTo>
                  <a:pt x="3671" y="5730"/>
                </a:moveTo>
                <a:cubicBezTo>
                  <a:pt x="3671" y="5722"/>
                  <a:pt x="3671" y="5713"/>
                  <a:pt x="3671" y="5705"/>
                </a:cubicBezTo>
                <a:cubicBezTo>
                  <a:pt x="3638" y="5705"/>
                  <a:pt x="3605" y="5705"/>
                  <a:pt x="3572" y="57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213000"/>
            <a:ext cx="10764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0120" y="5531"/>
                </a:moveTo>
                <a:cubicBezTo>
                  <a:pt x="10154" y="5453"/>
                  <a:pt x="10145" y="5443"/>
                  <a:pt x="10145" y="5531"/>
                </a:cubicBezTo>
                <a:cubicBezTo>
                  <a:pt x="10145" y="5630"/>
                  <a:pt x="10145" y="5730"/>
                  <a:pt x="10145" y="5829"/>
                </a:cubicBezTo>
              </a:path>
              <a:path w="299" h="547">
                <a:moveTo>
                  <a:pt x="10120" y="5457"/>
                </a:moveTo>
                <a:cubicBezTo>
                  <a:pt x="10129" y="5393"/>
                  <a:pt x="10134" y="5385"/>
                  <a:pt x="10170" y="5358"/>
                </a:cubicBezTo>
                <a:cubicBezTo>
                  <a:pt x="10207" y="5330"/>
                  <a:pt x="10221" y="5286"/>
                  <a:pt x="10269" y="5283"/>
                </a:cubicBezTo>
                <a:cubicBezTo>
                  <a:pt x="10296" y="5281"/>
                  <a:pt x="10381" y="5268"/>
                  <a:pt x="10393" y="5308"/>
                </a:cubicBezTo>
                <a:cubicBezTo>
                  <a:pt x="10408" y="5359"/>
                  <a:pt x="10386" y="5405"/>
                  <a:pt x="10344" y="5432"/>
                </a:cubicBezTo>
                <a:cubicBezTo>
                  <a:pt x="10289" y="5468"/>
                  <a:pt x="10242" y="5488"/>
                  <a:pt x="10220" y="5556"/>
                </a:cubicBezTo>
                <a:cubicBezTo>
                  <a:pt x="10220" y="5564"/>
                  <a:pt x="10220" y="5573"/>
                  <a:pt x="10220" y="5581"/>
                </a:cubicBezTo>
                <a:cubicBezTo>
                  <a:pt x="10260" y="5581"/>
                  <a:pt x="10313" y="5587"/>
                  <a:pt x="10344" y="5606"/>
                </a:cubicBezTo>
                <a:cubicBezTo>
                  <a:pt x="10377" y="5626"/>
                  <a:pt x="10414" y="5669"/>
                  <a:pt x="10418" y="5705"/>
                </a:cubicBezTo>
                <a:cubicBezTo>
                  <a:pt x="10423" y="5754"/>
                  <a:pt x="10376" y="5765"/>
                  <a:pt x="10344" y="5779"/>
                </a:cubicBezTo>
                <a:cubicBezTo>
                  <a:pt x="10281" y="5806"/>
                  <a:pt x="10238" y="5804"/>
                  <a:pt x="10170" y="5804"/>
                </a:cubicBezTo>
                <a:cubicBezTo>
                  <a:pt x="10162" y="5804"/>
                  <a:pt x="10153" y="5804"/>
                  <a:pt x="10145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7800" y="3795840"/>
            <a:ext cx="144360" cy="19656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2356" y="10641"/>
                </a:moveTo>
                <a:cubicBezTo>
                  <a:pt x="2410" y="10681"/>
                  <a:pt x="2396" y="10670"/>
                  <a:pt x="2406" y="10666"/>
                </a:cubicBezTo>
                <a:cubicBezTo>
                  <a:pt x="2433" y="10655"/>
                  <a:pt x="2443" y="10624"/>
                  <a:pt x="2480" y="10616"/>
                </a:cubicBezTo>
                <a:cubicBezTo>
                  <a:pt x="2531" y="10605"/>
                  <a:pt x="2606" y="10589"/>
                  <a:pt x="2654" y="10567"/>
                </a:cubicBezTo>
                <a:cubicBezTo>
                  <a:pt x="2697" y="10547"/>
                  <a:pt x="2748" y="10515"/>
                  <a:pt x="2753" y="10592"/>
                </a:cubicBezTo>
                <a:cubicBezTo>
                  <a:pt x="2760" y="10697"/>
                  <a:pt x="2719" y="10766"/>
                  <a:pt x="2704" y="10864"/>
                </a:cubicBezTo>
                <a:cubicBezTo>
                  <a:pt x="2693" y="10942"/>
                  <a:pt x="2679" y="11008"/>
                  <a:pt x="2679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41280" y="3768840"/>
            <a:ext cx="13356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3646" y="10517"/>
                </a:moveTo>
                <a:cubicBezTo>
                  <a:pt x="3691" y="10517"/>
                  <a:pt x="3708" y="10530"/>
                  <a:pt x="3721" y="10492"/>
                </a:cubicBezTo>
                <a:cubicBezTo>
                  <a:pt x="3710" y="10460"/>
                  <a:pt x="3666" y="10454"/>
                  <a:pt x="3621" y="10468"/>
                </a:cubicBezTo>
                <a:cubicBezTo>
                  <a:pt x="3554" y="10490"/>
                  <a:pt x="3476" y="10527"/>
                  <a:pt x="3448" y="10592"/>
                </a:cubicBezTo>
                <a:cubicBezTo>
                  <a:pt x="3429" y="10636"/>
                  <a:pt x="3449" y="10684"/>
                  <a:pt x="3473" y="10716"/>
                </a:cubicBezTo>
                <a:cubicBezTo>
                  <a:pt x="3545" y="10701"/>
                  <a:pt x="3563" y="10680"/>
                  <a:pt x="3597" y="10616"/>
                </a:cubicBezTo>
                <a:cubicBezTo>
                  <a:pt x="3617" y="10577"/>
                  <a:pt x="3637" y="10555"/>
                  <a:pt x="3646" y="10517"/>
                </a:cubicBezTo>
                <a:cubicBezTo>
                  <a:pt x="3718" y="10553"/>
                  <a:pt x="3680" y="10595"/>
                  <a:pt x="3696" y="10666"/>
                </a:cubicBezTo>
                <a:cubicBezTo>
                  <a:pt x="3714" y="10749"/>
                  <a:pt x="3759" y="10838"/>
                  <a:pt x="3795" y="10914"/>
                </a:cubicBezTo>
                <a:cubicBezTo>
                  <a:pt x="3803" y="10931"/>
                  <a:pt x="3812" y="10947"/>
                  <a:pt x="3820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1880" y="3571920"/>
            <a:ext cx="152280" cy="679320"/>
          </a:xfrm>
          <a:custGeom>
            <a:avLst/>
            <a:gdLst/>
            <a:ahLst/>
            <a:rect l="l" t="t" r="r" b="b"/>
            <a:pathLst>
              <a:path w="423" h="1886">
                <a:moveTo>
                  <a:pt x="5283" y="10071"/>
                </a:moveTo>
                <a:cubicBezTo>
                  <a:pt x="5337" y="10053"/>
                  <a:pt x="5284" y="10039"/>
                  <a:pt x="5308" y="9996"/>
                </a:cubicBezTo>
                <a:cubicBezTo>
                  <a:pt x="5324" y="9968"/>
                  <a:pt x="5381" y="9931"/>
                  <a:pt x="5407" y="9922"/>
                </a:cubicBezTo>
                <a:cubicBezTo>
                  <a:pt x="5436" y="9912"/>
                  <a:pt x="5492" y="9918"/>
                  <a:pt x="5507" y="9947"/>
                </a:cubicBezTo>
                <a:cubicBezTo>
                  <a:pt x="5519" y="9970"/>
                  <a:pt x="5539" y="10095"/>
                  <a:pt x="5531" y="10120"/>
                </a:cubicBezTo>
                <a:cubicBezTo>
                  <a:pt x="5518" y="10163"/>
                  <a:pt x="5482" y="10254"/>
                  <a:pt x="5457" y="10294"/>
                </a:cubicBezTo>
                <a:cubicBezTo>
                  <a:pt x="5433" y="10332"/>
                  <a:pt x="5432" y="10345"/>
                  <a:pt x="5432" y="10393"/>
                </a:cubicBezTo>
                <a:cubicBezTo>
                  <a:pt x="5479" y="10393"/>
                  <a:pt x="5496" y="10399"/>
                  <a:pt x="5531" y="10368"/>
                </a:cubicBezTo>
                <a:cubicBezTo>
                  <a:pt x="5562" y="10340"/>
                  <a:pt x="5594" y="10307"/>
                  <a:pt x="5631" y="10294"/>
                </a:cubicBezTo>
                <a:cubicBezTo>
                  <a:pt x="5676" y="10279"/>
                  <a:pt x="5689" y="10317"/>
                  <a:pt x="5705" y="10269"/>
                </a:cubicBezTo>
              </a:path>
              <a:path w="423" h="1886">
                <a:moveTo>
                  <a:pt x="5358" y="10716"/>
                </a:moveTo>
                <a:cubicBezTo>
                  <a:pt x="5358" y="10657"/>
                  <a:pt x="5366" y="10678"/>
                  <a:pt x="5407" y="10641"/>
                </a:cubicBezTo>
                <a:cubicBezTo>
                  <a:pt x="5428" y="10622"/>
                  <a:pt x="5475" y="10598"/>
                  <a:pt x="5507" y="10616"/>
                </a:cubicBezTo>
                <a:cubicBezTo>
                  <a:pt x="5560" y="10646"/>
                  <a:pt x="5556" y="10687"/>
                  <a:pt x="5556" y="10740"/>
                </a:cubicBezTo>
                <a:cubicBezTo>
                  <a:pt x="5556" y="10830"/>
                  <a:pt x="5549" y="10814"/>
                  <a:pt x="5482" y="10864"/>
                </a:cubicBezTo>
                <a:cubicBezTo>
                  <a:pt x="5467" y="10875"/>
                  <a:pt x="5386" y="10935"/>
                  <a:pt x="5383" y="10939"/>
                </a:cubicBezTo>
                <a:cubicBezTo>
                  <a:pt x="5383" y="10947"/>
                  <a:pt x="5383" y="10956"/>
                  <a:pt x="5383" y="10964"/>
                </a:cubicBezTo>
                <a:cubicBezTo>
                  <a:pt x="5448" y="10964"/>
                  <a:pt x="5472" y="10954"/>
                  <a:pt x="5531" y="10939"/>
                </a:cubicBezTo>
                <a:cubicBezTo>
                  <a:pt x="5561" y="10931"/>
                  <a:pt x="5608" y="10971"/>
                  <a:pt x="5631" y="10988"/>
                </a:cubicBezTo>
                <a:cubicBezTo>
                  <a:pt x="5618" y="11039"/>
                  <a:pt x="5588" y="11059"/>
                  <a:pt x="5531" y="11063"/>
                </a:cubicBezTo>
                <a:cubicBezTo>
                  <a:pt x="5473" y="11067"/>
                  <a:pt x="5446" y="11088"/>
                  <a:pt x="5383" y="11088"/>
                </a:cubicBezTo>
                <a:cubicBezTo>
                  <a:pt x="5330" y="11088"/>
                  <a:pt x="5321" y="11076"/>
                  <a:pt x="5283" y="11038"/>
                </a:cubicBezTo>
              </a:path>
              <a:path w="423" h="1886">
                <a:moveTo>
                  <a:pt x="5358" y="11410"/>
                </a:moveTo>
                <a:cubicBezTo>
                  <a:pt x="5378" y="11370"/>
                  <a:pt x="5387" y="11344"/>
                  <a:pt x="5383" y="11385"/>
                </a:cubicBezTo>
                <a:cubicBezTo>
                  <a:pt x="5354" y="11395"/>
                  <a:pt x="5338" y="11419"/>
                  <a:pt x="5333" y="11460"/>
                </a:cubicBezTo>
                <a:cubicBezTo>
                  <a:pt x="5329" y="11499"/>
                  <a:pt x="5400" y="11550"/>
                  <a:pt x="5432" y="11559"/>
                </a:cubicBezTo>
                <a:cubicBezTo>
                  <a:pt x="5483" y="11573"/>
                  <a:pt x="5553" y="11571"/>
                  <a:pt x="5581" y="11633"/>
                </a:cubicBezTo>
                <a:cubicBezTo>
                  <a:pt x="5591" y="11655"/>
                  <a:pt x="5627" y="11753"/>
                  <a:pt x="5606" y="11782"/>
                </a:cubicBezTo>
                <a:cubicBezTo>
                  <a:pt x="5587" y="11807"/>
                  <a:pt x="5515" y="11807"/>
                  <a:pt x="5482" y="11807"/>
                </a:cubicBezTo>
                <a:cubicBezTo>
                  <a:pt x="5437" y="11807"/>
                  <a:pt x="5424" y="11810"/>
                  <a:pt x="5407" y="11782"/>
                </a:cubicBezTo>
              </a:path>
              <a:path w="423" h="1886">
                <a:moveTo>
                  <a:pt x="5631" y="11336"/>
                </a:moveTo>
                <a:cubicBezTo>
                  <a:pt x="5653" y="11313"/>
                  <a:pt x="5658" y="11305"/>
                  <a:pt x="5680" y="11311"/>
                </a:cubicBezTo>
                <a:cubicBezTo>
                  <a:pt x="5620" y="11311"/>
                  <a:pt x="5614" y="11342"/>
                  <a:pt x="5556" y="11361"/>
                </a:cubicBezTo>
                <a:cubicBezTo>
                  <a:pt x="5516" y="11374"/>
                  <a:pt x="5495" y="11363"/>
                  <a:pt x="5457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63840" y="3768840"/>
            <a:ext cx="19080" cy="179280"/>
          </a:xfrm>
          <a:custGeom>
            <a:avLst/>
            <a:gdLst/>
            <a:ahLst/>
            <a:rect l="l" t="t" r="r" b="b"/>
            <a:pathLst>
              <a:path w="51" h="497">
                <a:moveTo>
                  <a:pt x="6846" y="10492"/>
                </a:moveTo>
                <a:cubicBezTo>
                  <a:pt x="6846" y="10468"/>
                  <a:pt x="6846" y="10460"/>
                  <a:pt x="6871" y="10468"/>
                </a:cubicBezTo>
                <a:cubicBezTo>
                  <a:pt x="6871" y="10621"/>
                  <a:pt x="6876" y="10766"/>
                  <a:pt x="6896" y="10914"/>
                </a:cubicBezTo>
                <a:cubicBezTo>
                  <a:pt x="6896" y="10931"/>
                  <a:pt x="6896" y="10947"/>
                  <a:pt x="6896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68760" y="3768840"/>
            <a:ext cx="133200" cy="169920"/>
          </a:xfrm>
          <a:custGeom>
            <a:avLst/>
            <a:gdLst/>
            <a:ahLst/>
            <a:rect l="l" t="t" r="r" b="b"/>
            <a:pathLst>
              <a:path w="374" h="472">
                <a:moveTo>
                  <a:pt x="7888" y="10492"/>
                </a:moveTo>
                <a:cubicBezTo>
                  <a:pt x="7938" y="10492"/>
                  <a:pt x="7987" y="10492"/>
                  <a:pt x="8037" y="10492"/>
                </a:cubicBezTo>
                <a:cubicBezTo>
                  <a:pt x="8013" y="10457"/>
                  <a:pt x="7969" y="10468"/>
                  <a:pt x="7913" y="10468"/>
                </a:cubicBezTo>
                <a:cubicBezTo>
                  <a:pt x="7845" y="10468"/>
                  <a:pt x="7771" y="10503"/>
                  <a:pt x="7714" y="10542"/>
                </a:cubicBezTo>
                <a:cubicBezTo>
                  <a:pt x="7641" y="10593"/>
                  <a:pt x="7704" y="10637"/>
                  <a:pt x="7739" y="10666"/>
                </a:cubicBezTo>
                <a:cubicBezTo>
                  <a:pt x="7786" y="10705"/>
                  <a:pt x="7843" y="10724"/>
                  <a:pt x="7888" y="10765"/>
                </a:cubicBezTo>
                <a:cubicBezTo>
                  <a:pt x="7923" y="10797"/>
                  <a:pt x="7959" y="10863"/>
                  <a:pt x="7938" y="10914"/>
                </a:cubicBezTo>
                <a:cubicBezTo>
                  <a:pt x="7921" y="10955"/>
                  <a:pt x="7846" y="10939"/>
                  <a:pt x="7813" y="10939"/>
                </a:cubicBezTo>
                <a:cubicBezTo>
                  <a:pt x="7789" y="10939"/>
                  <a:pt x="7780" y="10939"/>
                  <a:pt x="7764" y="10939"/>
                </a:cubicBezTo>
                <a:cubicBezTo>
                  <a:pt x="7764" y="10862"/>
                  <a:pt x="7805" y="10854"/>
                  <a:pt x="7838" y="10790"/>
                </a:cubicBezTo>
                <a:cubicBezTo>
                  <a:pt x="7888" y="10695"/>
                  <a:pt x="7922" y="10587"/>
                  <a:pt x="8012" y="10517"/>
                </a:cubicBezTo>
                <a:cubicBezTo>
                  <a:pt x="8029" y="10509"/>
                  <a:pt x="8045" y="10500"/>
                  <a:pt x="8062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57920" y="3537000"/>
            <a:ext cx="241200" cy="3571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16768" y="10294"/>
                </a:moveTo>
                <a:cubicBezTo>
                  <a:pt x="16793" y="10294"/>
                  <a:pt x="16801" y="10294"/>
                  <a:pt x="16818" y="10294"/>
                </a:cubicBezTo>
                <a:cubicBezTo>
                  <a:pt x="16805" y="10255"/>
                  <a:pt x="16779" y="10267"/>
                  <a:pt x="16743" y="10244"/>
                </a:cubicBezTo>
                <a:cubicBezTo>
                  <a:pt x="16710" y="10223"/>
                  <a:pt x="16684" y="10199"/>
                  <a:pt x="16644" y="10195"/>
                </a:cubicBezTo>
                <a:cubicBezTo>
                  <a:pt x="16588" y="10189"/>
                  <a:pt x="16564" y="10205"/>
                  <a:pt x="16520" y="10220"/>
                </a:cubicBezTo>
                <a:cubicBezTo>
                  <a:pt x="16477" y="10234"/>
                  <a:pt x="16456" y="10259"/>
                  <a:pt x="16421" y="10294"/>
                </a:cubicBezTo>
                <a:cubicBezTo>
                  <a:pt x="16389" y="10326"/>
                  <a:pt x="16382" y="10358"/>
                  <a:pt x="16346" y="10393"/>
                </a:cubicBezTo>
                <a:cubicBezTo>
                  <a:pt x="16316" y="10423"/>
                  <a:pt x="16318" y="10461"/>
                  <a:pt x="16297" y="10492"/>
                </a:cubicBezTo>
                <a:cubicBezTo>
                  <a:pt x="16270" y="10532"/>
                  <a:pt x="16272" y="10542"/>
                  <a:pt x="16272" y="10592"/>
                </a:cubicBezTo>
                <a:cubicBezTo>
                  <a:pt x="16317" y="10592"/>
                  <a:pt x="16331" y="10612"/>
                  <a:pt x="16371" y="10616"/>
                </a:cubicBezTo>
                <a:cubicBezTo>
                  <a:pt x="16426" y="10622"/>
                  <a:pt x="16451" y="10606"/>
                  <a:pt x="16495" y="10592"/>
                </a:cubicBezTo>
                <a:cubicBezTo>
                  <a:pt x="16538" y="10578"/>
                  <a:pt x="16529" y="10598"/>
                  <a:pt x="16570" y="10567"/>
                </a:cubicBezTo>
              </a:path>
              <a:path w="671" h="993">
                <a:moveTo>
                  <a:pt x="16545" y="10393"/>
                </a:moveTo>
                <a:cubicBezTo>
                  <a:pt x="16553" y="10393"/>
                  <a:pt x="16562" y="10393"/>
                  <a:pt x="16570" y="10393"/>
                </a:cubicBezTo>
                <a:cubicBezTo>
                  <a:pt x="16519" y="10393"/>
                  <a:pt x="16511" y="10404"/>
                  <a:pt x="16470" y="10418"/>
                </a:cubicBezTo>
                <a:cubicBezTo>
                  <a:pt x="16442" y="10418"/>
                  <a:pt x="16432" y="10421"/>
                  <a:pt x="16421" y="10443"/>
                </a:cubicBezTo>
              </a:path>
              <a:path w="671" h="993">
                <a:moveTo>
                  <a:pt x="16942" y="9823"/>
                </a:moveTo>
                <a:cubicBezTo>
                  <a:pt x="16931" y="9865"/>
                  <a:pt x="16892" y="9907"/>
                  <a:pt x="16867" y="9947"/>
                </a:cubicBezTo>
                <a:cubicBezTo>
                  <a:pt x="16799" y="10054"/>
                  <a:pt x="16734" y="10161"/>
                  <a:pt x="16669" y="10269"/>
                </a:cubicBezTo>
                <a:cubicBezTo>
                  <a:pt x="16595" y="10392"/>
                  <a:pt x="16539" y="10505"/>
                  <a:pt x="16495" y="10641"/>
                </a:cubicBezTo>
                <a:cubicBezTo>
                  <a:pt x="16475" y="10704"/>
                  <a:pt x="16450" y="10757"/>
                  <a:pt x="16421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7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%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68360" y="2733840"/>
            <a:ext cx="2046240" cy="11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2733840"/>
            <a:ext cx="2046240" cy="11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73852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18240" y="273852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" y="500364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36920" y="500364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94320" y="500868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40560" y="5008680"/>
            <a:ext cx="204624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learance sale, an iPod costs $25. How much would it cost norm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997360"/>
            <a:ext cx="2789280" cy="3479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3440" y="3500280"/>
            <a:ext cx="7189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24360" y="3500280"/>
            <a:ext cx="75744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52360" y="371628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3500280"/>
            <a:ext cx="309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3500280"/>
            <a:ext cx="3095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ied by 0.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7240" y="4357800"/>
            <a:ext cx="1044720" cy="660240"/>
          </a:xfrm>
          <a:custGeom>
            <a:avLst/>
            <a:gdLst/>
            <a:ahLst/>
            <a:rect l="l" t="t" r="r" b="b"/>
            <a:pathLst>
              <a:path w="2903" h="1836">
                <a:moveTo>
                  <a:pt x="12750" y="12477"/>
                </a:moveTo>
                <a:cubicBezTo>
                  <a:pt x="12737" y="12439"/>
                  <a:pt x="12725" y="12456"/>
                  <a:pt x="12725" y="12402"/>
                </a:cubicBezTo>
                <a:cubicBezTo>
                  <a:pt x="12725" y="12337"/>
                  <a:pt x="12747" y="12295"/>
                  <a:pt x="12799" y="12254"/>
                </a:cubicBezTo>
                <a:cubicBezTo>
                  <a:pt x="12828" y="12231"/>
                  <a:pt x="12960" y="12152"/>
                  <a:pt x="12998" y="12179"/>
                </a:cubicBezTo>
                <a:cubicBezTo>
                  <a:pt x="13075" y="12233"/>
                  <a:pt x="13042" y="12360"/>
                  <a:pt x="13022" y="12427"/>
                </a:cubicBezTo>
                <a:cubicBezTo>
                  <a:pt x="12994" y="12522"/>
                  <a:pt x="12934" y="12620"/>
                  <a:pt x="12874" y="12700"/>
                </a:cubicBezTo>
                <a:cubicBezTo>
                  <a:pt x="12848" y="12735"/>
                  <a:pt x="12833" y="12756"/>
                  <a:pt x="12824" y="12799"/>
                </a:cubicBezTo>
                <a:cubicBezTo>
                  <a:pt x="12904" y="12799"/>
                  <a:pt x="12943" y="12765"/>
                  <a:pt x="13022" y="12750"/>
                </a:cubicBezTo>
                <a:cubicBezTo>
                  <a:pt x="13091" y="12737"/>
                  <a:pt x="13149" y="12725"/>
                  <a:pt x="13221" y="12725"/>
                </a:cubicBezTo>
                <a:cubicBezTo>
                  <a:pt x="13238" y="12725"/>
                  <a:pt x="13254" y="12725"/>
                  <a:pt x="13271" y="12725"/>
                </a:cubicBezTo>
              </a:path>
              <a:path w="2903" h="1836">
                <a:moveTo>
                  <a:pt x="13519" y="12452"/>
                </a:moveTo>
                <a:cubicBezTo>
                  <a:pt x="13538" y="12411"/>
                  <a:pt x="13546" y="12405"/>
                  <a:pt x="13543" y="12378"/>
                </a:cubicBezTo>
                <a:cubicBezTo>
                  <a:pt x="13526" y="12382"/>
                  <a:pt x="13456" y="12421"/>
                  <a:pt x="13494" y="12452"/>
                </a:cubicBezTo>
                <a:cubicBezTo>
                  <a:pt x="13528" y="12480"/>
                  <a:pt x="13649" y="12497"/>
                  <a:pt x="13692" y="12502"/>
                </a:cubicBezTo>
                <a:cubicBezTo>
                  <a:pt x="13773" y="12512"/>
                  <a:pt x="13834" y="12498"/>
                  <a:pt x="13841" y="12601"/>
                </a:cubicBezTo>
                <a:cubicBezTo>
                  <a:pt x="13845" y="12667"/>
                  <a:pt x="13801" y="12701"/>
                  <a:pt x="13742" y="12725"/>
                </a:cubicBezTo>
                <a:cubicBezTo>
                  <a:pt x="13649" y="12763"/>
                  <a:pt x="13608" y="12736"/>
                  <a:pt x="13519" y="12725"/>
                </a:cubicBezTo>
              </a:path>
              <a:path w="2903" h="1836">
                <a:moveTo>
                  <a:pt x="13816" y="12427"/>
                </a:moveTo>
                <a:cubicBezTo>
                  <a:pt x="13858" y="12373"/>
                  <a:pt x="13901" y="12336"/>
                  <a:pt x="13915" y="12278"/>
                </a:cubicBezTo>
                <a:cubicBezTo>
                  <a:pt x="13849" y="12278"/>
                  <a:pt x="13783" y="12278"/>
                  <a:pt x="13717" y="12278"/>
                </a:cubicBezTo>
              </a:path>
              <a:path w="2903" h="1836">
                <a:moveTo>
                  <a:pt x="11881" y="12105"/>
                </a:moveTo>
                <a:cubicBezTo>
                  <a:pt x="11841" y="12135"/>
                  <a:pt x="11769" y="12140"/>
                  <a:pt x="11733" y="12179"/>
                </a:cubicBezTo>
                <a:cubicBezTo>
                  <a:pt x="11682" y="12234"/>
                  <a:pt x="11677" y="12271"/>
                  <a:pt x="11708" y="12328"/>
                </a:cubicBezTo>
                <a:cubicBezTo>
                  <a:pt x="11750" y="12406"/>
                  <a:pt x="11812" y="12404"/>
                  <a:pt x="11881" y="12452"/>
                </a:cubicBezTo>
                <a:cubicBezTo>
                  <a:pt x="11938" y="12492"/>
                  <a:pt x="11942" y="12547"/>
                  <a:pt x="11906" y="12601"/>
                </a:cubicBezTo>
                <a:cubicBezTo>
                  <a:pt x="11875" y="12647"/>
                  <a:pt x="11814" y="12688"/>
                  <a:pt x="11757" y="12675"/>
                </a:cubicBezTo>
                <a:cubicBezTo>
                  <a:pt x="11708" y="12650"/>
                  <a:pt x="11691" y="12642"/>
                  <a:pt x="11658" y="12626"/>
                </a:cubicBezTo>
              </a:path>
              <a:path w="2903" h="1836">
                <a:moveTo>
                  <a:pt x="11708" y="12154"/>
                </a:moveTo>
                <a:cubicBezTo>
                  <a:pt x="11724" y="12138"/>
                  <a:pt x="11741" y="12121"/>
                  <a:pt x="11757" y="12105"/>
                </a:cubicBezTo>
                <a:cubicBezTo>
                  <a:pt x="11757" y="12192"/>
                  <a:pt x="11741" y="12270"/>
                  <a:pt x="11733" y="12353"/>
                </a:cubicBezTo>
                <a:cubicBezTo>
                  <a:pt x="11733" y="12452"/>
                  <a:pt x="11733" y="12485"/>
                  <a:pt x="11733" y="12551"/>
                </a:cubicBezTo>
              </a:path>
              <a:path w="2903" h="1836">
                <a:moveTo>
                  <a:pt x="14188" y="13022"/>
                </a:moveTo>
                <a:cubicBezTo>
                  <a:pt x="14246" y="13022"/>
                  <a:pt x="14255" y="13022"/>
                  <a:pt x="14288" y="13022"/>
                </a:cubicBezTo>
                <a:cubicBezTo>
                  <a:pt x="14364" y="13022"/>
                  <a:pt x="14317" y="13022"/>
                  <a:pt x="14263" y="13022"/>
                </a:cubicBezTo>
                <a:cubicBezTo>
                  <a:pt x="14071" y="13022"/>
                  <a:pt x="13887" y="13069"/>
                  <a:pt x="13692" y="13072"/>
                </a:cubicBezTo>
                <a:cubicBezTo>
                  <a:pt x="13304" y="13077"/>
                  <a:pt x="12827" y="12989"/>
                  <a:pt x="12452" y="13097"/>
                </a:cubicBezTo>
                <a:cubicBezTo>
                  <a:pt x="12358" y="13124"/>
                  <a:pt x="12262" y="13201"/>
                  <a:pt x="12179" y="13246"/>
                </a:cubicBezTo>
              </a:path>
              <a:path w="2903" h="1836">
                <a:moveTo>
                  <a:pt x="12328" y="13618"/>
                </a:moveTo>
                <a:cubicBezTo>
                  <a:pt x="12287" y="13618"/>
                  <a:pt x="12245" y="13618"/>
                  <a:pt x="12204" y="13618"/>
                </a:cubicBezTo>
                <a:cubicBezTo>
                  <a:pt x="12204" y="13572"/>
                  <a:pt x="12197" y="13553"/>
                  <a:pt x="12229" y="13519"/>
                </a:cubicBezTo>
                <a:cubicBezTo>
                  <a:pt x="12286" y="13457"/>
                  <a:pt x="12402" y="13438"/>
                  <a:pt x="12477" y="13494"/>
                </a:cubicBezTo>
                <a:cubicBezTo>
                  <a:pt x="12558" y="13555"/>
                  <a:pt x="12620" y="13687"/>
                  <a:pt x="12601" y="13791"/>
                </a:cubicBezTo>
                <a:cubicBezTo>
                  <a:pt x="12585" y="13879"/>
                  <a:pt x="12520" y="13866"/>
                  <a:pt x="12452" y="13866"/>
                </a:cubicBezTo>
                <a:cubicBezTo>
                  <a:pt x="12376" y="13866"/>
                  <a:pt x="12346" y="13867"/>
                  <a:pt x="12278" y="13841"/>
                </a:cubicBezTo>
              </a:path>
              <a:path w="2903" h="1836">
                <a:moveTo>
                  <a:pt x="12898" y="13891"/>
                </a:moveTo>
                <a:cubicBezTo>
                  <a:pt x="12956" y="13910"/>
                  <a:pt x="12981" y="13900"/>
                  <a:pt x="12973" y="13940"/>
                </a:cubicBezTo>
              </a:path>
              <a:path w="2903" h="1836">
                <a:moveTo>
                  <a:pt x="13345" y="13543"/>
                </a:moveTo>
                <a:cubicBezTo>
                  <a:pt x="13295" y="13531"/>
                  <a:pt x="13295" y="13520"/>
                  <a:pt x="13295" y="13469"/>
                </a:cubicBezTo>
                <a:cubicBezTo>
                  <a:pt x="13295" y="13389"/>
                  <a:pt x="13298" y="13384"/>
                  <a:pt x="13370" y="13345"/>
                </a:cubicBezTo>
                <a:cubicBezTo>
                  <a:pt x="13460" y="13297"/>
                  <a:pt x="13519" y="13312"/>
                  <a:pt x="13568" y="13395"/>
                </a:cubicBezTo>
                <a:cubicBezTo>
                  <a:pt x="13613" y="13471"/>
                  <a:pt x="13601" y="13566"/>
                  <a:pt x="13568" y="13643"/>
                </a:cubicBezTo>
                <a:cubicBezTo>
                  <a:pt x="13541" y="13706"/>
                  <a:pt x="13469" y="13735"/>
                  <a:pt x="13444" y="13791"/>
                </a:cubicBezTo>
                <a:cubicBezTo>
                  <a:pt x="13444" y="13799"/>
                  <a:pt x="13444" y="13808"/>
                  <a:pt x="13444" y="13816"/>
                </a:cubicBezTo>
                <a:cubicBezTo>
                  <a:pt x="13552" y="13816"/>
                  <a:pt x="13659" y="13816"/>
                  <a:pt x="13767" y="13816"/>
                </a:cubicBezTo>
              </a:path>
              <a:path w="2903" h="1836">
                <a:moveTo>
                  <a:pt x="14064" y="13494"/>
                </a:moveTo>
                <a:cubicBezTo>
                  <a:pt x="14083" y="13436"/>
                  <a:pt x="14110" y="13411"/>
                  <a:pt x="14064" y="13419"/>
                </a:cubicBezTo>
                <a:cubicBezTo>
                  <a:pt x="14020" y="13463"/>
                  <a:pt x="13960" y="13507"/>
                  <a:pt x="13940" y="13568"/>
                </a:cubicBezTo>
                <a:cubicBezTo>
                  <a:pt x="13940" y="13576"/>
                  <a:pt x="13940" y="13585"/>
                  <a:pt x="13940" y="13593"/>
                </a:cubicBezTo>
                <a:cubicBezTo>
                  <a:pt x="14014" y="13630"/>
                  <a:pt x="14087" y="13660"/>
                  <a:pt x="14163" y="13692"/>
                </a:cubicBezTo>
                <a:cubicBezTo>
                  <a:pt x="14230" y="13721"/>
                  <a:pt x="14280" y="13738"/>
                  <a:pt x="14288" y="13816"/>
                </a:cubicBezTo>
                <a:cubicBezTo>
                  <a:pt x="14292" y="13852"/>
                  <a:pt x="14280" y="13903"/>
                  <a:pt x="14238" y="13915"/>
                </a:cubicBezTo>
                <a:cubicBezTo>
                  <a:pt x="14161" y="13936"/>
                  <a:pt x="14060" y="13914"/>
                  <a:pt x="13990" y="13891"/>
                </a:cubicBezTo>
              </a:path>
              <a:path w="2903" h="1836">
                <a:moveTo>
                  <a:pt x="14511" y="13543"/>
                </a:moveTo>
                <a:cubicBezTo>
                  <a:pt x="14550" y="13445"/>
                  <a:pt x="14566" y="13432"/>
                  <a:pt x="14560" y="13370"/>
                </a:cubicBezTo>
                <a:cubicBezTo>
                  <a:pt x="14511" y="13370"/>
                  <a:pt x="14461" y="13370"/>
                  <a:pt x="14412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8880" y="5214960"/>
            <a:ext cx="660240" cy="277920"/>
          </a:xfrm>
          <a:custGeom>
            <a:avLst/>
            <a:gdLst/>
            <a:ahLst/>
            <a:rect l="l" t="t" r="r" b="b"/>
            <a:pathLst>
              <a:path w="1836" h="770">
                <a:moveTo>
                  <a:pt x="12229" y="14660"/>
                </a:moveTo>
                <a:cubicBezTo>
                  <a:pt x="12249" y="14619"/>
                  <a:pt x="12258" y="14613"/>
                  <a:pt x="12254" y="14585"/>
                </a:cubicBezTo>
                <a:cubicBezTo>
                  <a:pt x="12155" y="14585"/>
                  <a:pt x="12113" y="14597"/>
                  <a:pt x="12030" y="14635"/>
                </a:cubicBezTo>
                <a:cubicBezTo>
                  <a:pt x="11948" y="14673"/>
                  <a:pt x="11872" y="14696"/>
                  <a:pt x="11857" y="14784"/>
                </a:cubicBezTo>
                <a:cubicBezTo>
                  <a:pt x="11846" y="14849"/>
                  <a:pt x="12043" y="14872"/>
                  <a:pt x="12080" y="14883"/>
                </a:cubicBezTo>
                <a:cubicBezTo>
                  <a:pt x="12188" y="14916"/>
                  <a:pt x="12247" y="14932"/>
                  <a:pt x="12303" y="15032"/>
                </a:cubicBezTo>
                <a:cubicBezTo>
                  <a:pt x="12346" y="15109"/>
                  <a:pt x="12296" y="15165"/>
                  <a:pt x="12229" y="15205"/>
                </a:cubicBezTo>
                <a:cubicBezTo>
                  <a:pt x="12164" y="15243"/>
                  <a:pt x="12030" y="15247"/>
                  <a:pt x="11956" y="15230"/>
                </a:cubicBezTo>
                <a:cubicBezTo>
                  <a:pt x="11906" y="15205"/>
                  <a:pt x="11890" y="15197"/>
                  <a:pt x="11857" y="15180"/>
                </a:cubicBezTo>
              </a:path>
              <a:path w="1836" h="770">
                <a:moveTo>
                  <a:pt x="12055" y="14486"/>
                </a:moveTo>
                <a:cubicBezTo>
                  <a:pt x="12079" y="14502"/>
                  <a:pt x="12100" y="14610"/>
                  <a:pt x="12105" y="14660"/>
                </a:cubicBezTo>
                <a:cubicBezTo>
                  <a:pt x="12117" y="14784"/>
                  <a:pt x="12105" y="14910"/>
                  <a:pt x="12129" y="15032"/>
                </a:cubicBezTo>
                <a:cubicBezTo>
                  <a:pt x="12144" y="15105"/>
                  <a:pt x="12154" y="15155"/>
                  <a:pt x="12154" y="15230"/>
                </a:cubicBezTo>
                <a:cubicBezTo>
                  <a:pt x="12154" y="15238"/>
                  <a:pt x="12154" y="15247"/>
                  <a:pt x="12154" y="15255"/>
                </a:cubicBezTo>
              </a:path>
              <a:path w="1836" h="770">
                <a:moveTo>
                  <a:pt x="12601" y="14858"/>
                </a:moveTo>
                <a:cubicBezTo>
                  <a:pt x="12555" y="14805"/>
                  <a:pt x="12526" y="14790"/>
                  <a:pt x="12576" y="14734"/>
                </a:cubicBezTo>
                <a:cubicBezTo>
                  <a:pt x="12622" y="14683"/>
                  <a:pt x="12735" y="14655"/>
                  <a:pt x="12799" y="14684"/>
                </a:cubicBezTo>
                <a:cubicBezTo>
                  <a:pt x="12892" y="14727"/>
                  <a:pt x="12935" y="14867"/>
                  <a:pt x="12948" y="14957"/>
                </a:cubicBezTo>
                <a:cubicBezTo>
                  <a:pt x="12962" y="15053"/>
                  <a:pt x="12917" y="15123"/>
                  <a:pt x="12824" y="15131"/>
                </a:cubicBezTo>
                <a:cubicBezTo>
                  <a:pt x="12736" y="15139"/>
                  <a:pt x="12612" y="15097"/>
                  <a:pt x="12551" y="15032"/>
                </a:cubicBezTo>
                <a:cubicBezTo>
                  <a:pt x="12543" y="15015"/>
                  <a:pt x="12534" y="14999"/>
                  <a:pt x="12526" y="14982"/>
                </a:cubicBezTo>
              </a:path>
              <a:path w="1836" h="770">
                <a:moveTo>
                  <a:pt x="13395" y="14957"/>
                </a:moveTo>
                <a:cubicBezTo>
                  <a:pt x="13323" y="14916"/>
                  <a:pt x="13320" y="14916"/>
                  <a:pt x="13320" y="14833"/>
                </a:cubicBezTo>
                <a:cubicBezTo>
                  <a:pt x="13320" y="14768"/>
                  <a:pt x="13374" y="14699"/>
                  <a:pt x="13444" y="14684"/>
                </a:cubicBezTo>
                <a:cubicBezTo>
                  <a:pt x="13557" y="14659"/>
                  <a:pt x="13630" y="14744"/>
                  <a:pt x="13667" y="14833"/>
                </a:cubicBezTo>
                <a:cubicBezTo>
                  <a:pt x="13717" y="14953"/>
                  <a:pt x="13698" y="15013"/>
                  <a:pt x="13593" y="15081"/>
                </a:cubicBezTo>
                <a:cubicBezTo>
                  <a:pt x="13500" y="15141"/>
                  <a:pt x="13375" y="15057"/>
                  <a:pt x="13295" y="15007"/>
                </a:cubicBezTo>
                <a:cubicBezTo>
                  <a:pt x="13210" y="14953"/>
                  <a:pt x="13207" y="14947"/>
                  <a:pt x="13196" y="14858"/>
                </a:cubicBezTo>
              </a:path>
              <a:path w="1836" h="770">
                <a:moveTo>
                  <a:pt x="12353" y="14759"/>
                </a:moveTo>
                <a:cubicBezTo>
                  <a:pt x="12353" y="14834"/>
                  <a:pt x="12356" y="14884"/>
                  <a:pt x="12378" y="14957"/>
                </a:cubicBezTo>
                <a:cubicBezTo>
                  <a:pt x="12402" y="15037"/>
                  <a:pt x="12422" y="15124"/>
                  <a:pt x="12427" y="15205"/>
                </a:cubicBezTo>
                <a:cubicBezTo>
                  <a:pt x="12427" y="15222"/>
                  <a:pt x="12427" y="15238"/>
                  <a:pt x="12427" y="152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10000" y="5268960"/>
            <a:ext cx="982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9947" y="14660"/>
                </a:moveTo>
                <a:cubicBezTo>
                  <a:pt x="10006" y="14634"/>
                  <a:pt x="10044" y="14635"/>
                  <a:pt x="9971" y="14635"/>
                </a:cubicBezTo>
                <a:cubicBezTo>
                  <a:pt x="9896" y="14635"/>
                  <a:pt x="9858" y="14673"/>
                  <a:pt x="9798" y="14709"/>
                </a:cubicBezTo>
                <a:cubicBezTo>
                  <a:pt x="9781" y="14717"/>
                  <a:pt x="9765" y="14726"/>
                  <a:pt x="9748" y="14734"/>
                </a:cubicBezTo>
              </a:path>
              <a:path w="274" h="373">
                <a:moveTo>
                  <a:pt x="9897" y="14932"/>
                </a:moveTo>
                <a:cubicBezTo>
                  <a:pt x="9975" y="14932"/>
                  <a:pt x="9993" y="14917"/>
                  <a:pt x="10021" y="14957"/>
                </a:cubicBezTo>
                <a:cubicBezTo>
                  <a:pt x="9990" y="15019"/>
                  <a:pt x="9942" y="15007"/>
                  <a:pt x="9872" y="15007"/>
                </a:cubicBezTo>
                <a:cubicBezTo>
                  <a:pt x="9856" y="15007"/>
                  <a:pt x="9839" y="15007"/>
                  <a:pt x="9823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$20,000 in five years’ time to buy a new b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get 6% interest each year in a bank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do I need to invest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708280"/>
            <a:ext cx="2324160" cy="1784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588000" y="47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: $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149720"/>
            <a:ext cx="7189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4149720"/>
            <a:ext cx="1513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20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43657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4149720"/>
            <a:ext cx="309564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ied by 1.0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149720"/>
            <a:ext cx="3095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5983200"/>
            <a:ext cx="1908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3547" y="16644"/>
                </a:moveTo>
                <a:cubicBezTo>
                  <a:pt x="3547" y="16636"/>
                  <a:pt x="3547" y="16627"/>
                  <a:pt x="3547" y="16619"/>
                </a:cubicBezTo>
                <a:cubicBezTo>
                  <a:pt x="3495" y="16619"/>
                  <a:pt x="3497" y="16617"/>
                  <a:pt x="3497" y="16669"/>
                </a:cubicBezTo>
                <a:cubicBezTo>
                  <a:pt x="3497" y="16677"/>
                  <a:pt x="3497" y="16686"/>
                  <a:pt x="3497" y="166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5240" y="4902120"/>
            <a:ext cx="303480" cy="206280"/>
          </a:xfrm>
          <a:custGeom>
            <a:avLst/>
            <a:gdLst/>
            <a:ahLst/>
            <a:rect l="l" t="t" r="r" b="b"/>
            <a:pathLst>
              <a:path w="844" h="571">
                <a:moveTo>
                  <a:pt x="2307" y="13940"/>
                </a:moveTo>
                <a:cubicBezTo>
                  <a:pt x="2266" y="13960"/>
                  <a:pt x="2260" y="13969"/>
                  <a:pt x="2232" y="13965"/>
                </a:cubicBezTo>
                <a:cubicBezTo>
                  <a:pt x="2213" y="13939"/>
                  <a:pt x="2187" y="13878"/>
                  <a:pt x="2208" y="13841"/>
                </a:cubicBezTo>
                <a:cubicBezTo>
                  <a:pt x="2253" y="13762"/>
                  <a:pt x="2329" y="13691"/>
                  <a:pt x="2406" y="13643"/>
                </a:cubicBezTo>
                <a:cubicBezTo>
                  <a:pt x="2471" y="13603"/>
                  <a:pt x="2535" y="13607"/>
                  <a:pt x="2555" y="13692"/>
                </a:cubicBezTo>
                <a:cubicBezTo>
                  <a:pt x="2577" y="13783"/>
                  <a:pt x="2535" y="13859"/>
                  <a:pt x="2505" y="13940"/>
                </a:cubicBezTo>
                <a:cubicBezTo>
                  <a:pt x="2483" y="13998"/>
                  <a:pt x="2427" y="14098"/>
                  <a:pt x="2456" y="14163"/>
                </a:cubicBezTo>
                <a:cubicBezTo>
                  <a:pt x="2480" y="14217"/>
                  <a:pt x="2548" y="14178"/>
                  <a:pt x="2580" y="14163"/>
                </a:cubicBezTo>
                <a:cubicBezTo>
                  <a:pt x="2630" y="14140"/>
                  <a:pt x="2679" y="14114"/>
                  <a:pt x="2729" y="14089"/>
                </a:cubicBezTo>
              </a:path>
              <a:path w="844" h="571">
                <a:moveTo>
                  <a:pt x="2902" y="13841"/>
                </a:moveTo>
                <a:cubicBezTo>
                  <a:pt x="2837" y="13832"/>
                  <a:pt x="2828" y="13834"/>
                  <a:pt x="2828" y="13767"/>
                </a:cubicBezTo>
                <a:cubicBezTo>
                  <a:pt x="2828" y="13707"/>
                  <a:pt x="2879" y="13695"/>
                  <a:pt x="2927" y="13692"/>
                </a:cubicBezTo>
                <a:cubicBezTo>
                  <a:pt x="3005" y="13687"/>
                  <a:pt x="3038" y="13796"/>
                  <a:pt x="3051" y="13866"/>
                </a:cubicBezTo>
                <a:cubicBezTo>
                  <a:pt x="3062" y="13924"/>
                  <a:pt x="3013" y="13979"/>
                  <a:pt x="2952" y="13965"/>
                </a:cubicBezTo>
                <a:cubicBezTo>
                  <a:pt x="2902" y="13953"/>
                  <a:pt x="2842" y="13897"/>
                  <a:pt x="2803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8280" y="4938840"/>
            <a:ext cx="517680" cy="98280"/>
          </a:xfrm>
          <a:custGeom>
            <a:avLst/>
            <a:gdLst/>
            <a:ahLst/>
            <a:rect l="l" t="t" r="r" b="b"/>
            <a:pathLst>
              <a:path w="1440" h="274">
                <a:moveTo>
                  <a:pt x="3572" y="13841"/>
                </a:moveTo>
                <a:cubicBezTo>
                  <a:pt x="3530" y="13827"/>
                  <a:pt x="3541" y="13801"/>
                  <a:pt x="3572" y="13767"/>
                </a:cubicBezTo>
                <a:cubicBezTo>
                  <a:pt x="3629" y="13704"/>
                  <a:pt x="3697" y="13749"/>
                  <a:pt x="3746" y="13791"/>
                </a:cubicBezTo>
                <a:cubicBezTo>
                  <a:pt x="3775" y="13816"/>
                  <a:pt x="3794" y="13939"/>
                  <a:pt x="3746" y="13965"/>
                </a:cubicBezTo>
                <a:cubicBezTo>
                  <a:pt x="3695" y="13992"/>
                  <a:pt x="3562" y="13964"/>
                  <a:pt x="3522" y="13940"/>
                </a:cubicBezTo>
              </a:path>
              <a:path w="1440" h="274">
                <a:moveTo>
                  <a:pt x="4043" y="13866"/>
                </a:moveTo>
                <a:cubicBezTo>
                  <a:pt x="3992" y="13831"/>
                  <a:pt x="3971" y="13820"/>
                  <a:pt x="4018" y="13767"/>
                </a:cubicBezTo>
                <a:cubicBezTo>
                  <a:pt x="4066" y="13713"/>
                  <a:pt x="4142" y="13756"/>
                  <a:pt x="4192" y="13791"/>
                </a:cubicBezTo>
                <a:cubicBezTo>
                  <a:pt x="4271" y="13845"/>
                  <a:pt x="4240" y="13888"/>
                  <a:pt x="4192" y="13940"/>
                </a:cubicBezTo>
                <a:cubicBezTo>
                  <a:pt x="4158" y="13977"/>
                  <a:pt x="4045" y="13979"/>
                  <a:pt x="3994" y="13965"/>
                </a:cubicBezTo>
                <a:cubicBezTo>
                  <a:pt x="3950" y="13943"/>
                  <a:pt x="3938" y="13940"/>
                  <a:pt x="3919" y="13915"/>
                </a:cubicBezTo>
              </a:path>
              <a:path w="1440" h="274">
                <a:moveTo>
                  <a:pt x="4539" y="13841"/>
                </a:moveTo>
                <a:cubicBezTo>
                  <a:pt x="4546" y="13819"/>
                  <a:pt x="4560" y="13787"/>
                  <a:pt x="4589" y="13767"/>
                </a:cubicBezTo>
                <a:cubicBezTo>
                  <a:pt x="4636" y="13734"/>
                  <a:pt x="4756" y="13706"/>
                  <a:pt x="4812" y="13717"/>
                </a:cubicBezTo>
                <a:cubicBezTo>
                  <a:pt x="4891" y="13732"/>
                  <a:pt x="4953" y="13824"/>
                  <a:pt x="4961" y="13891"/>
                </a:cubicBezTo>
                <a:cubicBezTo>
                  <a:pt x="4973" y="13998"/>
                  <a:pt x="4867" y="14003"/>
                  <a:pt x="4787" y="13990"/>
                </a:cubicBezTo>
                <a:cubicBezTo>
                  <a:pt x="4687" y="13974"/>
                  <a:pt x="4659" y="13952"/>
                  <a:pt x="4589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71720" y="5232240"/>
            <a:ext cx="982440" cy="428760"/>
          </a:xfrm>
          <a:custGeom>
            <a:avLst/>
            <a:gdLst/>
            <a:ahLst/>
            <a:rect l="l" t="t" r="r" b="b"/>
            <a:pathLst>
              <a:path w="2729" h="1191">
                <a:moveTo>
                  <a:pt x="5680" y="14560"/>
                </a:moveTo>
                <a:cubicBezTo>
                  <a:pt x="5705" y="14560"/>
                  <a:pt x="5713" y="14560"/>
                  <a:pt x="5705" y="14536"/>
                </a:cubicBezTo>
                <a:cubicBezTo>
                  <a:pt x="5625" y="14536"/>
                  <a:pt x="5550" y="14551"/>
                  <a:pt x="5482" y="14560"/>
                </a:cubicBezTo>
                <a:cubicBezTo>
                  <a:pt x="5424" y="14568"/>
                  <a:pt x="5362" y="14578"/>
                  <a:pt x="5308" y="14585"/>
                </a:cubicBezTo>
                <a:cubicBezTo>
                  <a:pt x="5232" y="14595"/>
                  <a:pt x="5182" y="14586"/>
                  <a:pt x="5110" y="14610"/>
                </a:cubicBezTo>
                <a:cubicBezTo>
                  <a:pt x="5059" y="14627"/>
                  <a:pt x="5008" y="14643"/>
                  <a:pt x="4961" y="14660"/>
                </a:cubicBezTo>
                <a:cubicBezTo>
                  <a:pt x="4896" y="14683"/>
                  <a:pt x="4853" y="14711"/>
                  <a:pt x="4787" y="14734"/>
                </a:cubicBezTo>
                <a:cubicBezTo>
                  <a:pt x="4741" y="14750"/>
                  <a:pt x="4693" y="14776"/>
                  <a:pt x="4638" y="14784"/>
                </a:cubicBezTo>
                <a:cubicBezTo>
                  <a:pt x="4539" y="14798"/>
                  <a:pt x="4437" y="14793"/>
                  <a:pt x="4341" y="14808"/>
                </a:cubicBezTo>
                <a:cubicBezTo>
                  <a:pt x="4203" y="14830"/>
                  <a:pt x="4054" y="14810"/>
                  <a:pt x="3919" y="14833"/>
                </a:cubicBezTo>
                <a:cubicBezTo>
                  <a:pt x="3850" y="14845"/>
                  <a:pt x="3794" y="14858"/>
                  <a:pt x="3721" y="14858"/>
                </a:cubicBezTo>
                <a:cubicBezTo>
                  <a:pt x="3656" y="14858"/>
                  <a:pt x="3610" y="14880"/>
                  <a:pt x="3547" y="14883"/>
                </a:cubicBezTo>
                <a:cubicBezTo>
                  <a:pt x="3464" y="14887"/>
                  <a:pt x="3401" y="14895"/>
                  <a:pt x="3324" y="14908"/>
                </a:cubicBezTo>
                <a:cubicBezTo>
                  <a:pt x="3246" y="14921"/>
                  <a:pt x="3145" y="14923"/>
                  <a:pt x="3076" y="14932"/>
                </a:cubicBezTo>
                <a:cubicBezTo>
                  <a:pt x="3008" y="14941"/>
                  <a:pt x="3010" y="14960"/>
                  <a:pt x="2977" y="14982"/>
                </a:cubicBezTo>
              </a:path>
              <a:path w="2729" h="1191">
                <a:moveTo>
                  <a:pt x="3597" y="15329"/>
                </a:moveTo>
                <a:cubicBezTo>
                  <a:pt x="3605" y="15321"/>
                  <a:pt x="3613" y="15312"/>
                  <a:pt x="3621" y="15304"/>
                </a:cubicBezTo>
                <a:cubicBezTo>
                  <a:pt x="3621" y="15379"/>
                  <a:pt x="3623" y="15430"/>
                  <a:pt x="3646" y="15503"/>
                </a:cubicBezTo>
                <a:cubicBezTo>
                  <a:pt x="3671" y="15576"/>
                  <a:pt x="3679" y="15600"/>
                  <a:pt x="3671" y="15652"/>
                </a:cubicBezTo>
              </a:path>
              <a:path w="2729" h="1191">
                <a:moveTo>
                  <a:pt x="3919" y="15652"/>
                </a:moveTo>
                <a:cubicBezTo>
                  <a:pt x="3964" y="15652"/>
                  <a:pt x="3977" y="15649"/>
                  <a:pt x="3994" y="15677"/>
                </a:cubicBezTo>
              </a:path>
              <a:path w="2729" h="1191">
                <a:moveTo>
                  <a:pt x="4242" y="15453"/>
                </a:moveTo>
                <a:cubicBezTo>
                  <a:pt x="4203" y="15403"/>
                  <a:pt x="4222" y="15398"/>
                  <a:pt x="4266" y="15354"/>
                </a:cubicBezTo>
                <a:cubicBezTo>
                  <a:pt x="4294" y="15326"/>
                  <a:pt x="4377" y="15308"/>
                  <a:pt x="4415" y="15329"/>
                </a:cubicBezTo>
                <a:cubicBezTo>
                  <a:pt x="4506" y="15380"/>
                  <a:pt x="4557" y="15482"/>
                  <a:pt x="4564" y="15577"/>
                </a:cubicBezTo>
                <a:cubicBezTo>
                  <a:pt x="4571" y="15665"/>
                  <a:pt x="4585" y="15720"/>
                  <a:pt x="4490" y="15726"/>
                </a:cubicBezTo>
                <a:cubicBezTo>
                  <a:pt x="4437" y="15729"/>
                  <a:pt x="4329" y="15693"/>
                  <a:pt x="4291" y="15652"/>
                </a:cubicBezTo>
                <a:cubicBezTo>
                  <a:pt x="4283" y="15635"/>
                  <a:pt x="4274" y="15619"/>
                  <a:pt x="4266" y="15602"/>
                </a:cubicBezTo>
              </a:path>
              <a:path w="2729" h="1191">
                <a:moveTo>
                  <a:pt x="4887" y="15230"/>
                </a:moveTo>
                <a:cubicBezTo>
                  <a:pt x="4887" y="15171"/>
                  <a:pt x="4906" y="15156"/>
                  <a:pt x="4911" y="15106"/>
                </a:cubicBezTo>
                <a:cubicBezTo>
                  <a:pt x="4911" y="15098"/>
                  <a:pt x="4911" y="15089"/>
                  <a:pt x="4911" y="15081"/>
                </a:cubicBezTo>
                <a:cubicBezTo>
                  <a:pt x="4872" y="15091"/>
                  <a:pt x="4853" y="15118"/>
                  <a:pt x="4837" y="15156"/>
                </a:cubicBezTo>
                <a:cubicBezTo>
                  <a:pt x="4798" y="15248"/>
                  <a:pt x="4767" y="15329"/>
                  <a:pt x="4762" y="15429"/>
                </a:cubicBezTo>
                <a:cubicBezTo>
                  <a:pt x="4758" y="15521"/>
                  <a:pt x="4809" y="15603"/>
                  <a:pt x="4887" y="15652"/>
                </a:cubicBezTo>
                <a:cubicBezTo>
                  <a:pt x="4923" y="15674"/>
                  <a:pt x="5013" y="15630"/>
                  <a:pt x="5035" y="15602"/>
                </a:cubicBezTo>
                <a:cubicBezTo>
                  <a:pt x="5066" y="15562"/>
                  <a:pt x="5027" y="15490"/>
                  <a:pt x="5011" y="15478"/>
                </a:cubicBezTo>
                <a:cubicBezTo>
                  <a:pt x="4967" y="15445"/>
                  <a:pt x="4942" y="15429"/>
                  <a:pt x="4887" y="15429"/>
                </a:cubicBezTo>
                <a:cubicBezTo>
                  <a:pt x="4862" y="15429"/>
                  <a:pt x="4854" y="15429"/>
                  <a:pt x="4862" y="15453"/>
                </a:cubicBezTo>
              </a:path>
              <a:path w="2729" h="1191">
                <a:moveTo>
                  <a:pt x="5358" y="14858"/>
                </a:moveTo>
                <a:cubicBezTo>
                  <a:pt x="5358" y="14833"/>
                  <a:pt x="5358" y="14825"/>
                  <a:pt x="5358" y="14808"/>
                </a:cubicBezTo>
                <a:cubicBezTo>
                  <a:pt x="5345" y="14858"/>
                  <a:pt x="5316" y="14862"/>
                  <a:pt x="5358" y="14908"/>
                </a:cubicBezTo>
                <a:cubicBezTo>
                  <a:pt x="5387" y="14940"/>
                  <a:pt x="5512" y="14973"/>
                  <a:pt x="5556" y="14982"/>
                </a:cubicBezTo>
                <a:cubicBezTo>
                  <a:pt x="5601" y="14982"/>
                  <a:pt x="5614" y="14979"/>
                  <a:pt x="5631" y="15007"/>
                </a:cubicBezTo>
              </a:path>
              <a:path w="2729" h="1191">
                <a:moveTo>
                  <a:pt x="5631" y="15056"/>
                </a:moveTo>
                <a:cubicBezTo>
                  <a:pt x="5581" y="15106"/>
                  <a:pt x="5554" y="15125"/>
                  <a:pt x="5482" y="15131"/>
                </a:cubicBezTo>
                <a:cubicBezTo>
                  <a:pt x="5449" y="15134"/>
                  <a:pt x="5416" y="15131"/>
                  <a:pt x="5383" y="151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46200" y="5224320"/>
            <a:ext cx="260640" cy="241560"/>
          </a:xfrm>
          <a:custGeom>
            <a:avLst/>
            <a:gdLst/>
            <a:ahLst/>
            <a:rect l="l" t="t" r="r" b="b"/>
            <a:pathLst>
              <a:path w="721" h="670">
                <a:moveTo>
                  <a:pt x="6796" y="15156"/>
                </a:moveTo>
                <a:cubicBezTo>
                  <a:pt x="6796" y="15164"/>
                  <a:pt x="6796" y="15172"/>
                  <a:pt x="6796" y="15180"/>
                </a:cubicBezTo>
              </a:path>
              <a:path w="721" h="670">
                <a:moveTo>
                  <a:pt x="7268" y="14536"/>
                </a:moveTo>
                <a:cubicBezTo>
                  <a:pt x="7320" y="14497"/>
                  <a:pt x="7321" y="14507"/>
                  <a:pt x="7268" y="14536"/>
                </a:cubicBezTo>
                <a:cubicBezTo>
                  <a:pt x="7200" y="14574"/>
                  <a:pt x="7135" y="14627"/>
                  <a:pt x="7069" y="14660"/>
                </a:cubicBezTo>
                <a:cubicBezTo>
                  <a:pt x="7002" y="14682"/>
                  <a:pt x="6984" y="14686"/>
                  <a:pt x="6945" y="14709"/>
                </a:cubicBezTo>
              </a:path>
              <a:path w="721" h="670">
                <a:moveTo>
                  <a:pt x="7466" y="14808"/>
                </a:moveTo>
                <a:cubicBezTo>
                  <a:pt x="7502" y="14782"/>
                  <a:pt x="7529" y="14762"/>
                  <a:pt x="7466" y="14784"/>
                </a:cubicBezTo>
                <a:cubicBezTo>
                  <a:pt x="7394" y="14809"/>
                  <a:pt x="7308" y="14845"/>
                  <a:pt x="7243" y="14883"/>
                </a:cubicBezTo>
                <a:cubicBezTo>
                  <a:pt x="7178" y="14926"/>
                  <a:pt x="7163" y="14937"/>
                  <a:pt x="7119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06800" y="5126040"/>
            <a:ext cx="554040" cy="303120"/>
          </a:xfrm>
          <a:custGeom>
            <a:avLst/>
            <a:gdLst/>
            <a:ahLst/>
            <a:rect l="l" t="t" r="r" b="b"/>
            <a:pathLst>
              <a:path w="1539" h="844">
                <a:moveTo>
                  <a:pt x="8954" y="14387"/>
                </a:moveTo>
                <a:cubicBezTo>
                  <a:pt x="8987" y="14387"/>
                  <a:pt x="9021" y="14387"/>
                  <a:pt x="9054" y="14387"/>
                </a:cubicBezTo>
                <a:cubicBezTo>
                  <a:pt x="9054" y="14323"/>
                  <a:pt x="9046" y="14337"/>
                  <a:pt x="8979" y="14337"/>
                </a:cubicBezTo>
                <a:cubicBezTo>
                  <a:pt x="8911" y="14337"/>
                  <a:pt x="8852" y="14392"/>
                  <a:pt x="8806" y="14436"/>
                </a:cubicBezTo>
                <a:cubicBezTo>
                  <a:pt x="8737" y="14501"/>
                  <a:pt x="8687" y="14509"/>
                  <a:pt x="8682" y="14610"/>
                </a:cubicBezTo>
                <a:cubicBezTo>
                  <a:pt x="8678" y="14678"/>
                  <a:pt x="8720" y="14709"/>
                  <a:pt x="8781" y="14734"/>
                </a:cubicBezTo>
                <a:cubicBezTo>
                  <a:pt x="8867" y="14769"/>
                  <a:pt x="8931" y="14777"/>
                  <a:pt x="8979" y="14858"/>
                </a:cubicBezTo>
                <a:cubicBezTo>
                  <a:pt x="9006" y="14904"/>
                  <a:pt x="9049" y="14949"/>
                  <a:pt x="9029" y="15007"/>
                </a:cubicBezTo>
                <a:cubicBezTo>
                  <a:pt x="9007" y="15072"/>
                  <a:pt x="8943" y="15077"/>
                  <a:pt x="8880" y="15081"/>
                </a:cubicBezTo>
                <a:cubicBezTo>
                  <a:pt x="8807" y="15085"/>
                  <a:pt x="8748" y="15085"/>
                  <a:pt x="8682" y="15056"/>
                </a:cubicBezTo>
                <a:cubicBezTo>
                  <a:pt x="8665" y="15048"/>
                  <a:pt x="8649" y="15040"/>
                  <a:pt x="8632" y="15032"/>
                </a:cubicBezTo>
              </a:path>
              <a:path w="1539" h="844">
                <a:moveTo>
                  <a:pt x="8905" y="14263"/>
                </a:moveTo>
                <a:cubicBezTo>
                  <a:pt x="8905" y="14238"/>
                  <a:pt x="8905" y="14230"/>
                  <a:pt x="8930" y="14238"/>
                </a:cubicBezTo>
                <a:cubicBezTo>
                  <a:pt x="8930" y="14294"/>
                  <a:pt x="8912" y="14336"/>
                  <a:pt x="8905" y="14387"/>
                </a:cubicBezTo>
                <a:cubicBezTo>
                  <a:pt x="8890" y="14504"/>
                  <a:pt x="8860" y="14639"/>
                  <a:pt x="8880" y="14759"/>
                </a:cubicBezTo>
                <a:cubicBezTo>
                  <a:pt x="8891" y="14827"/>
                  <a:pt x="8908" y="14893"/>
                  <a:pt x="8930" y="14957"/>
                </a:cubicBezTo>
              </a:path>
              <a:path w="1539" h="844">
                <a:moveTo>
                  <a:pt x="9351" y="14362"/>
                </a:moveTo>
                <a:cubicBezTo>
                  <a:pt x="9351" y="14337"/>
                  <a:pt x="9351" y="14329"/>
                  <a:pt x="9376" y="14337"/>
                </a:cubicBezTo>
                <a:cubicBezTo>
                  <a:pt x="9376" y="14473"/>
                  <a:pt x="9387" y="14602"/>
                  <a:pt x="9401" y="14734"/>
                </a:cubicBezTo>
                <a:cubicBezTo>
                  <a:pt x="9408" y="14798"/>
                  <a:pt x="9418" y="14846"/>
                  <a:pt x="9426" y="14908"/>
                </a:cubicBezTo>
              </a:path>
              <a:path w="1539" h="844">
                <a:moveTo>
                  <a:pt x="9699" y="14288"/>
                </a:moveTo>
                <a:cubicBezTo>
                  <a:pt x="9707" y="14280"/>
                  <a:pt x="9715" y="14271"/>
                  <a:pt x="9723" y="14263"/>
                </a:cubicBezTo>
                <a:cubicBezTo>
                  <a:pt x="9723" y="14367"/>
                  <a:pt x="9710" y="14460"/>
                  <a:pt x="9699" y="14560"/>
                </a:cubicBezTo>
                <a:cubicBezTo>
                  <a:pt x="9689" y="14651"/>
                  <a:pt x="9705" y="14725"/>
                  <a:pt x="9723" y="14808"/>
                </a:cubicBezTo>
                <a:cubicBezTo>
                  <a:pt x="9733" y="14854"/>
                  <a:pt x="9823" y="14833"/>
                  <a:pt x="9872" y="14833"/>
                </a:cubicBezTo>
                <a:cubicBezTo>
                  <a:pt x="9939" y="14833"/>
                  <a:pt x="9991" y="14800"/>
                  <a:pt x="10046" y="14784"/>
                </a:cubicBezTo>
                <a:cubicBezTo>
                  <a:pt x="10063" y="14779"/>
                  <a:pt x="10207" y="14784"/>
                  <a:pt x="10145" y="14784"/>
                </a:cubicBezTo>
              </a:path>
              <a:path w="1539" h="844">
                <a:moveTo>
                  <a:pt x="9971" y="14585"/>
                </a:moveTo>
                <a:cubicBezTo>
                  <a:pt x="9932" y="14655"/>
                  <a:pt x="9905" y="14696"/>
                  <a:pt x="9922" y="14784"/>
                </a:cubicBezTo>
                <a:cubicBezTo>
                  <a:pt x="9934" y="14845"/>
                  <a:pt x="9950" y="14900"/>
                  <a:pt x="9971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54320" y="5197320"/>
            <a:ext cx="776520" cy="250920"/>
          </a:xfrm>
          <a:custGeom>
            <a:avLst/>
            <a:gdLst/>
            <a:ahLst/>
            <a:rect l="l" t="t" r="r" b="b"/>
            <a:pathLst>
              <a:path w="2159" h="696">
                <a:moveTo>
                  <a:pt x="11559" y="14486"/>
                </a:moveTo>
                <a:cubicBezTo>
                  <a:pt x="11559" y="14461"/>
                  <a:pt x="11559" y="14453"/>
                  <a:pt x="11559" y="14436"/>
                </a:cubicBezTo>
                <a:cubicBezTo>
                  <a:pt x="11498" y="14436"/>
                  <a:pt x="11459" y="14445"/>
                  <a:pt x="11410" y="14486"/>
                </a:cubicBezTo>
                <a:cubicBezTo>
                  <a:pt x="11355" y="14532"/>
                  <a:pt x="11257" y="14631"/>
                  <a:pt x="11261" y="14709"/>
                </a:cubicBezTo>
                <a:cubicBezTo>
                  <a:pt x="11286" y="14759"/>
                  <a:pt x="11294" y="14775"/>
                  <a:pt x="11311" y="14808"/>
                </a:cubicBezTo>
                <a:cubicBezTo>
                  <a:pt x="11407" y="14789"/>
                  <a:pt x="11418" y="14767"/>
                  <a:pt x="11460" y="14684"/>
                </a:cubicBezTo>
                <a:cubicBezTo>
                  <a:pt x="11488" y="14628"/>
                  <a:pt x="11498" y="14575"/>
                  <a:pt x="11559" y="14560"/>
                </a:cubicBezTo>
                <a:cubicBezTo>
                  <a:pt x="11574" y="14651"/>
                  <a:pt x="11571" y="14741"/>
                  <a:pt x="11584" y="14833"/>
                </a:cubicBezTo>
                <a:cubicBezTo>
                  <a:pt x="11599" y="14935"/>
                  <a:pt x="11609" y="15027"/>
                  <a:pt x="11609" y="15131"/>
                </a:cubicBezTo>
              </a:path>
              <a:path w="2159" h="696">
                <a:moveTo>
                  <a:pt x="11906" y="14585"/>
                </a:moveTo>
                <a:cubicBezTo>
                  <a:pt x="11906" y="14658"/>
                  <a:pt x="11892" y="14717"/>
                  <a:pt x="11881" y="14784"/>
                </a:cubicBezTo>
                <a:cubicBezTo>
                  <a:pt x="11874" y="14828"/>
                  <a:pt x="11864" y="14931"/>
                  <a:pt x="11906" y="14957"/>
                </a:cubicBezTo>
                <a:cubicBezTo>
                  <a:pt x="11987" y="15007"/>
                  <a:pt x="12279" y="14884"/>
                  <a:pt x="12328" y="14982"/>
                </a:cubicBezTo>
                <a:cubicBezTo>
                  <a:pt x="12328" y="15007"/>
                  <a:pt x="12328" y="15015"/>
                  <a:pt x="12303" y="15007"/>
                </a:cubicBezTo>
              </a:path>
              <a:path w="2159" h="696">
                <a:moveTo>
                  <a:pt x="12129" y="14858"/>
                </a:moveTo>
                <a:cubicBezTo>
                  <a:pt x="12129" y="14791"/>
                  <a:pt x="12129" y="14942"/>
                  <a:pt x="12129" y="14957"/>
                </a:cubicBezTo>
                <a:cubicBezTo>
                  <a:pt x="12129" y="15015"/>
                  <a:pt x="12129" y="15073"/>
                  <a:pt x="12129" y="15131"/>
                </a:cubicBezTo>
              </a:path>
              <a:path w="2159" h="696">
                <a:moveTo>
                  <a:pt x="12576" y="14511"/>
                </a:moveTo>
                <a:cubicBezTo>
                  <a:pt x="12576" y="14572"/>
                  <a:pt x="12544" y="14603"/>
                  <a:pt x="12526" y="14660"/>
                </a:cubicBezTo>
                <a:cubicBezTo>
                  <a:pt x="12514" y="14697"/>
                  <a:pt x="12517" y="14761"/>
                  <a:pt x="12551" y="14784"/>
                </a:cubicBezTo>
                <a:cubicBezTo>
                  <a:pt x="12613" y="14826"/>
                  <a:pt x="12702" y="14848"/>
                  <a:pt x="12774" y="14858"/>
                </a:cubicBezTo>
                <a:cubicBezTo>
                  <a:pt x="12830" y="14866"/>
                  <a:pt x="12881" y="14892"/>
                  <a:pt x="12898" y="14957"/>
                </a:cubicBezTo>
                <a:cubicBezTo>
                  <a:pt x="12907" y="14992"/>
                  <a:pt x="12906" y="15059"/>
                  <a:pt x="12874" y="15081"/>
                </a:cubicBezTo>
                <a:cubicBezTo>
                  <a:pt x="12806" y="15128"/>
                  <a:pt x="12743" y="15105"/>
                  <a:pt x="12675" y="15081"/>
                </a:cubicBezTo>
                <a:cubicBezTo>
                  <a:pt x="12610" y="15059"/>
                  <a:pt x="12595" y="15051"/>
                  <a:pt x="12551" y="15056"/>
                </a:cubicBezTo>
              </a:path>
              <a:path w="2159" h="696">
                <a:moveTo>
                  <a:pt x="13047" y="14486"/>
                </a:moveTo>
                <a:cubicBezTo>
                  <a:pt x="12990" y="14486"/>
                  <a:pt x="12970" y="14508"/>
                  <a:pt x="12923" y="14536"/>
                </a:cubicBezTo>
                <a:cubicBezTo>
                  <a:pt x="12875" y="14564"/>
                  <a:pt x="12825" y="14566"/>
                  <a:pt x="12774" y="14585"/>
                </a:cubicBezTo>
              </a:path>
              <a:path w="2159" h="696">
                <a:moveTo>
                  <a:pt x="13419" y="15081"/>
                </a:moveTo>
                <a:cubicBezTo>
                  <a:pt x="13411" y="15073"/>
                  <a:pt x="13403" y="15064"/>
                  <a:pt x="13395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5268960"/>
            <a:ext cx="277920" cy="25884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4362" y="14709"/>
                </a:moveTo>
                <a:cubicBezTo>
                  <a:pt x="14362" y="14667"/>
                  <a:pt x="14362" y="14742"/>
                  <a:pt x="14362" y="14784"/>
                </a:cubicBezTo>
                <a:cubicBezTo>
                  <a:pt x="14362" y="14904"/>
                  <a:pt x="14374" y="15015"/>
                  <a:pt x="14387" y="15131"/>
                </a:cubicBezTo>
                <a:cubicBezTo>
                  <a:pt x="14387" y="15197"/>
                  <a:pt x="14387" y="15214"/>
                  <a:pt x="14387" y="15255"/>
                </a:cubicBezTo>
              </a:path>
              <a:path w="770" h="720">
                <a:moveTo>
                  <a:pt x="14883" y="14709"/>
                </a:moveTo>
                <a:cubicBezTo>
                  <a:pt x="14957" y="14696"/>
                  <a:pt x="14917" y="14679"/>
                  <a:pt x="14957" y="14660"/>
                </a:cubicBezTo>
                <a:cubicBezTo>
                  <a:pt x="14965" y="14660"/>
                  <a:pt x="14974" y="14660"/>
                  <a:pt x="14982" y="14660"/>
                </a:cubicBezTo>
                <a:cubicBezTo>
                  <a:pt x="14957" y="14586"/>
                  <a:pt x="14925" y="14699"/>
                  <a:pt x="14908" y="14734"/>
                </a:cubicBezTo>
                <a:cubicBezTo>
                  <a:pt x="14860" y="14831"/>
                  <a:pt x="14836" y="14924"/>
                  <a:pt x="14833" y="15032"/>
                </a:cubicBezTo>
                <a:cubicBezTo>
                  <a:pt x="14829" y="15167"/>
                  <a:pt x="14868" y="15233"/>
                  <a:pt x="14957" y="15329"/>
                </a:cubicBezTo>
                <a:cubicBezTo>
                  <a:pt x="15001" y="15377"/>
                  <a:pt x="15069" y="15355"/>
                  <a:pt x="15106" y="15304"/>
                </a:cubicBezTo>
                <a:cubicBezTo>
                  <a:pt x="15126" y="15276"/>
                  <a:pt x="15151" y="15192"/>
                  <a:pt x="15131" y="15156"/>
                </a:cubicBezTo>
                <a:cubicBezTo>
                  <a:pt x="15109" y="15118"/>
                  <a:pt x="15021" y="15112"/>
                  <a:pt x="14982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erse Percentage Chan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K, VAT (‘sales tax’) is 15%. A computer costs 400 including tax. How much would it cost before ta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3224160"/>
            <a:ext cx="1241640" cy="419040"/>
          </a:xfrm>
          <a:custGeom>
            <a:avLst/>
            <a:gdLst/>
            <a:ahLst/>
            <a:rect l="l" t="t" r="r" b="b"/>
            <a:pathLst>
              <a:path w="3449" h="1167">
                <a:moveTo>
                  <a:pt x="3373" y="9401"/>
                </a:moveTo>
                <a:cubicBezTo>
                  <a:pt x="3373" y="9443"/>
                  <a:pt x="3383" y="9439"/>
                  <a:pt x="3349" y="9451"/>
                </a:cubicBezTo>
                <a:cubicBezTo>
                  <a:pt x="3330" y="9445"/>
                  <a:pt x="3305" y="9406"/>
                  <a:pt x="3299" y="9376"/>
                </a:cubicBezTo>
                <a:cubicBezTo>
                  <a:pt x="3288" y="9324"/>
                  <a:pt x="3362" y="9234"/>
                  <a:pt x="3398" y="9203"/>
                </a:cubicBezTo>
                <a:cubicBezTo>
                  <a:pt x="3461" y="9149"/>
                  <a:pt x="3561" y="9140"/>
                  <a:pt x="3621" y="9203"/>
                </a:cubicBezTo>
                <a:cubicBezTo>
                  <a:pt x="3714" y="9300"/>
                  <a:pt x="3721" y="9401"/>
                  <a:pt x="3721" y="9525"/>
                </a:cubicBezTo>
                <a:cubicBezTo>
                  <a:pt x="3721" y="9624"/>
                  <a:pt x="3695" y="9644"/>
                  <a:pt x="3597" y="9649"/>
                </a:cubicBezTo>
                <a:cubicBezTo>
                  <a:pt x="3521" y="9653"/>
                  <a:pt x="3409" y="9658"/>
                  <a:pt x="3349" y="9599"/>
                </a:cubicBezTo>
                <a:cubicBezTo>
                  <a:pt x="3307" y="9558"/>
                  <a:pt x="3324" y="9477"/>
                  <a:pt x="3324" y="9426"/>
                </a:cubicBezTo>
              </a:path>
              <a:path w="3449" h="1167">
                <a:moveTo>
                  <a:pt x="4018" y="9575"/>
                </a:moveTo>
                <a:cubicBezTo>
                  <a:pt x="4018" y="9599"/>
                  <a:pt x="4018" y="9608"/>
                  <a:pt x="4018" y="9624"/>
                </a:cubicBezTo>
                <a:cubicBezTo>
                  <a:pt x="3986" y="9602"/>
                  <a:pt x="3972" y="9532"/>
                  <a:pt x="3969" y="9475"/>
                </a:cubicBezTo>
                <a:cubicBezTo>
                  <a:pt x="3966" y="9417"/>
                  <a:pt x="3999" y="9372"/>
                  <a:pt x="4043" y="9351"/>
                </a:cubicBezTo>
                <a:cubicBezTo>
                  <a:pt x="4093" y="9327"/>
                  <a:pt x="4115" y="9327"/>
                  <a:pt x="4167" y="9327"/>
                </a:cubicBezTo>
              </a:path>
              <a:path w="3449" h="1167">
                <a:moveTo>
                  <a:pt x="4291" y="9426"/>
                </a:moveTo>
                <a:cubicBezTo>
                  <a:pt x="4347" y="9426"/>
                  <a:pt x="4362" y="9438"/>
                  <a:pt x="4366" y="9500"/>
                </a:cubicBezTo>
                <a:cubicBezTo>
                  <a:pt x="4366" y="9542"/>
                  <a:pt x="4366" y="9550"/>
                  <a:pt x="4366" y="9575"/>
                </a:cubicBezTo>
              </a:path>
              <a:path w="3449" h="1167">
                <a:moveTo>
                  <a:pt x="4266" y="9351"/>
                </a:moveTo>
                <a:cubicBezTo>
                  <a:pt x="4253" y="9241"/>
                  <a:pt x="4206" y="9224"/>
                  <a:pt x="4291" y="9203"/>
                </a:cubicBezTo>
              </a:path>
              <a:path w="3449" h="1167">
                <a:moveTo>
                  <a:pt x="4713" y="9451"/>
                </a:moveTo>
                <a:cubicBezTo>
                  <a:pt x="4675" y="9393"/>
                  <a:pt x="4698" y="9401"/>
                  <a:pt x="4638" y="9401"/>
                </a:cubicBezTo>
                <a:cubicBezTo>
                  <a:pt x="4599" y="9421"/>
                  <a:pt x="4577" y="9474"/>
                  <a:pt x="4564" y="9525"/>
                </a:cubicBezTo>
                <a:cubicBezTo>
                  <a:pt x="4564" y="9553"/>
                  <a:pt x="4566" y="9564"/>
                  <a:pt x="4589" y="9575"/>
                </a:cubicBezTo>
                <a:cubicBezTo>
                  <a:pt x="4643" y="9561"/>
                  <a:pt x="4649" y="9529"/>
                  <a:pt x="4713" y="9525"/>
                </a:cubicBezTo>
                <a:cubicBezTo>
                  <a:pt x="4802" y="9520"/>
                  <a:pt x="4851" y="9678"/>
                  <a:pt x="4887" y="9748"/>
                </a:cubicBezTo>
                <a:cubicBezTo>
                  <a:pt x="4943" y="9857"/>
                  <a:pt x="4992" y="9951"/>
                  <a:pt x="4936" y="10071"/>
                </a:cubicBezTo>
                <a:cubicBezTo>
                  <a:pt x="4904" y="10138"/>
                  <a:pt x="4746" y="10130"/>
                  <a:pt x="4688" y="10120"/>
                </a:cubicBezTo>
                <a:cubicBezTo>
                  <a:pt x="4605" y="10105"/>
                  <a:pt x="4570" y="10052"/>
                  <a:pt x="4514" y="9996"/>
                </a:cubicBezTo>
              </a:path>
              <a:path w="3449" h="1167">
                <a:moveTo>
                  <a:pt x="5135" y="9475"/>
                </a:moveTo>
                <a:cubicBezTo>
                  <a:pt x="5172" y="9475"/>
                  <a:pt x="5163" y="9541"/>
                  <a:pt x="5184" y="9575"/>
                </a:cubicBezTo>
              </a:path>
              <a:path w="3449" h="1167">
                <a:moveTo>
                  <a:pt x="5085" y="9376"/>
                </a:moveTo>
                <a:cubicBezTo>
                  <a:pt x="5060" y="9330"/>
                  <a:pt x="4982" y="9245"/>
                  <a:pt x="5035" y="9227"/>
                </a:cubicBezTo>
              </a:path>
              <a:path w="3449" h="1167">
                <a:moveTo>
                  <a:pt x="5333" y="9475"/>
                </a:moveTo>
                <a:cubicBezTo>
                  <a:pt x="5350" y="9533"/>
                  <a:pt x="5370" y="9574"/>
                  <a:pt x="5383" y="9624"/>
                </a:cubicBezTo>
                <a:cubicBezTo>
                  <a:pt x="5383" y="9572"/>
                  <a:pt x="5386" y="9496"/>
                  <a:pt x="5407" y="9451"/>
                </a:cubicBezTo>
                <a:cubicBezTo>
                  <a:pt x="5435" y="9391"/>
                  <a:pt x="5483" y="9394"/>
                  <a:pt x="5531" y="9426"/>
                </a:cubicBezTo>
                <a:cubicBezTo>
                  <a:pt x="5573" y="9455"/>
                  <a:pt x="5616" y="9493"/>
                  <a:pt x="5655" y="9525"/>
                </a:cubicBezTo>
              </a:path>
              <a:path w="3449" h="1167">
                <a:moveTo>
                  <a:pt x="5928" y="9376"/>
                </a:moveTo>
                <a:cubicBezTo>
                  <a:pt x="5928" y="9360"/>
                  <a:pt x="5928" y="9343"/>
                  <a:pt x="5928" y="9327"/>
                </a:cubicBezTo>
                <a:cubicBezTo>
                  <a:pt x="5901" y="9336"/>
                  <a:pt x="5882" y="9361"/>
                  <a:pt x="5879" y="9401"/>
                </a:cubicBezTo>
                <a:cubicBezTo>
                  <a:pt x="5877" y="9433"/>
                  <a:pt x="5879" y="9467"/>
                  <a:pt x="5879" y="9500"/>
                </a:cubicBezTo>
                <a:cubicBezTo>
                  <a:pt x="5929" y="9500"/>
                  <a:pt x="5937" y="9489"/>
                  <a:pt x="5978" y="9475"/>
                </a:cubicBezTo>
                <a:cubicBezTo>
                  <a:pt x="6036" y="9456"/>
                  <a:pt x="6035" y="9513"/>
                  <a:pt x="6077" y="9525"/>
                </a:cubicBezTo>
                <a:cubicBezTo>
                  <a:pt x="6107" y="9534"/>
                  <a:pt x="6184" y="9534"/>
                  <a:pt x="6201" y="9500"/>
                </a:cubicBezTo>
                <a:cubicBezTo>
                  <a:pt x="6201" y="9472"/>
                  <a:pt x="6203" y="9461"/>
                  <a:pt x="6226" y="9451"/>
                </a:cubicBezTo>
              </a:path>
              <a:path w="3449" h="1167">
                <a:moveTo>
                  <a:pt x="6499" y="9103"/>
                </a:moveTo>
                <a:cubicBezTo>
                  <a:pt x="6499" y="9020"/>
                  <a:pt x="6499" y="9004"/>
                  <a:pt x="6499" y="8954"/>
                </a:cubicBezTo>
                <a:cubicBezTo>
                  <a:pt x="6462" y="9066"/>
                  <a:pt x="6473" y="9160"/>
                  <a:pt x="6499" y="9277"/>
                </a:cubicBezTo>
                <a:cubicBezTo>
                  <a:pt x="6531" y="9420"/>
                  <a:pt x="6592" y="9462"/>
                  <a:pt x="6697" y="9550"/>
                </a:cubicBezTo>
                <a:cubicBezTo>
                  <a:pt x="6714" y="9566"/>
                  <a:pt x="6730" y="9583"/>
                  <a:pt x="6747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5960" y="3803760"/>
            <a:ext cx="965160" cy="741240"/>
          </a:xfrm>
          <a:custGeom>
            <a:avLst/>
            <a:gdLst/>
            <a:ahLst/>
            <a:rect l="l" t="t" r="r" b="b"/>
            <a:pathLst>
              <a:path w="2680" h="2060">
                <a:moveTo>
                  <a:pt x="4961" y="10864"/>
                </a:moveTo>
                <a:cubicBezTo>
                  <a:pt x="4981" y="10793"/>
                  <a:pt x="5007" y="10733"/>
                  <a:pt x="5011" y="10666"/>
                </a:cubicBezTo>
                <a:cubicBezTo>
                  <a:pt x="5013" y="10625"/>
                  <a:pt x="5011" y="10551"/>
                  <a:pt x="5011" y="10592"/>
                </a:cubicBezTo>
                <a:cubicBezTo>
                  <a:pt x="5011" y="10722"/>
                  <a:pt x="4974" y="10836"/>
                  <a:pt x="4961" y="10964"/>
                </a:cubicBezTo>
                <a:cubicBezTo>
                  <a:pt x="4947" y="11099"/>
                  <a:pt x="4950" y="11226"/>
                  <a:pt x="5035" y="11336"/>
                </a:cubicBezTo>
                <a:cubicBezTo>
                  <a:pt x="5110" y="11433"/>
                  <a:pt x="5179" y="11410"/>
                  <a:pt x="5283" y="11385"/>
                </a:cubicBezTo>
                <a:cubicBezTo>
                  <a:pt x="5377" y="11362"/>
                  <a:pt x="5460" y="11316"/>
                  <a:pt x="5556" y="11311"/>
                </a:cubicBezTo>
                <a:cubicBezTo>
                  <a:pt x="5611" y="11308"/>
                  <a:pt x="5626" y="11286"/>
                  <a:pt x="5680" y="11286"/>
                </a:cubicBezTo>
                <a:cubicBezTo>
                  <a:pt x="5688" y="11286"/>
                  <a:pt x="5697" y="11286"/>
                  <a:pt x="5705" y="11286"/>
                </a:cubicBezTo>
              </a:path>
              <a:path w="2680" h="2060">
                <a:moveTo>
                  <a:pt x="5457" y="11162"/>
                </a:moveTo>
                <a:cubicBezTo>
                  <a:pt x="5440" y="11154"/>
                  <a:pt x="5424" y="11145"/>
                  <a:pt x="5407" y="11137"/>
                </a:cubicBezTo>
                <a:cubicBezTo>
                  <a:pt x="5407" y="11257"/>
                  <a:pt x="5419" y="11369"/>
                  <a:pt x="5432" y="11485"/>
                </a:cubicBezTo>
                <a:cubicBezTo>
                  <a:pt x="5432" y="11510"/>
                  <a:pt x="5432" y="11534"/>
                  <a:pt x="5432" y="11559"/>
                </a:cubicBezTo>
              </a:path>
              <a:path w="2680" h="2060">
                <a:moveTo>
                  <a:pt x="5978" y="11187"/>
                </a:moveTo>
                <a:cubicBezTo>
                  <a:pt x="5932" y="11175"/>
                  <a:pt x="5923" y="11163"/>
                  <a:pt x="5904" y="11137"/>
                </a:cubicBezTo>
                <a:cubicBezTo>
                  <a:pt x="5879" y="11112"/>
                  <a:pt x="5871" y="11104"/>
                  <a:pt x="5854" y="11088"/>
                </a:cubicBezTo>
                <a:cubicBezTo>
                  <a:pt x="5876" y="11033"/>
                  <a:pt x="5934" y="10976"/>
                  <a:pt x="6003" y="10964"/>
                </a:cubicBezTo>
                <a:cubicBezTo>
                  <a:pt x="6139" y="10941"/>
                  <a:pt x="6206" y="11025"/>
                  <a:pt x="6251" y="11137"/>
                </a:cubicBezTo>
                <a:cubicBezTo>
                  <a:pt x="6291" y="11235"/>
                  <a:pt x="6260" y="11331"/>
                  <a:pt x="6176" y="11385"/>
                </a:cubicBezTo>
                <a:cubicBezTo>
                  <a:pt x="6122" y="11420"/>
                  <a:pt x="6036" y="11469"/>
                  <a:pt x="5978" y="11410"/>
                </a:cubicBezTo>
                <a:cubicBezTo>
                  <a:pt x="5978" y="11385"/>
                  <a:pt x="5978" y="11377"/>
                  <a:pt x="5978" y="11361"/>
                </a:cubicBezTo>
              </a:path>
              <a:path w="2680" h="2060">
                <a:moveTo>
                  <a:pt x="6722" y="11162"/>
                </a:moveTo>
                <a:cubicBezTo>
                  <a:pt x="6699" y="11185"/>
                  <a:pt x="6695" y="11193"/>
                  <a:pt x="6672" y="11187"/>
                </a:cubicBezTo>
                <a:cubicBezTo>
                  <a:pt x="6672" y="11124"/>
                  <a:pt x="6700" y="11060"/>
                  <a:pt x="6772" y="11038"/>
                </a:cubicBezTo>
                <a:cubicBezTo>
                  <a:pt x="6879" y="11005"/>
                  <a:pt x="7000" y="11057"/>
                  <a:pt x="7069" y="11137"/>
                </a:cubicBezTo>
                <a:cubicBezTo>
                  <a:pt x="7163" y="11246"/>
                  <a:pt x="7105" y="11351"/>
                  <a:pt x="6970" y="11385"/>
                </a:cubicBezTo>
                <a:cubicBezTo>
                  <a:pt x="6856" y="11413"/>
                  <a:pt x="6687" y="11352"/>
                  <a:pt x="6598" y="11286"/>
                </a:cubicBezTo>
                <a:cubicBezTo>
                  <a:pt x="6553" y="11242"/>
                  <a:pt x="6536" y="11232"/>
                  <a:pt x="6548" y="11187"/>
                </a:cubicBezTo>
              </a:path>
              <a:path w="2680" h="2060">
                <a:moveTo>
                  <a:pt x="7392" y="11683"/>
                </a:moveTo>
                <a:cubicBezTo>
                  <a:pt x="7466" y="11664"/>
                  <a:pt x="7473" y="11656"/>
                  <a:pt x="7516" y="11658"/>
                </a:cubicBezTo>
                <a:cubicBezTo>
                  <a:pt x="7493" y="11681"/>
                  <a:pt x="7511" y="11628"/>
                  <a:pt x="7417" y="11658"/>
                </a:cubicBezTo>
                <a:cubicBezTo>
                  <a:pt x="7240" y="11715"/>
                  <a:pt x="7052" y="11814"/>
                  <a:pt x="6871" y="11857"/>
                </a:cubicBezTo>
                <a:cubicBezTo>
                  <a:pt x="6636" y="11913"/>
                  <a:pt x="6387" y="11923"/>
                  <a:pt x="6152" y="11981"/>
                </a:cubicBezTo>
                <a:cubicBezTo>
                  <a:pt x="5996" y="12020"/>
                  <a:pt x="5883" y="12096"/>
                  <a:pt x="5755" y="12179"/>
                </a:cubicBezTo>
                <a:cubicBezTo>
                  <a:pt x="5706" y="12211"/>
                  <a:pt x="5692" y="12233"/>
                  <a:pt x="5655" y="12278"/>
                </a:cubicBezTo>
              </a:path>
              <a:path w="2680" h="2060">
                <a:moveTo>
                  <a:pt x="6152" y="12353"/>
                </a:moveTo>
                <a:cubicBezTo>
                  <a:pt x="6152" y="12320"/>
                  <a:pt x="6152" y="12287"/>
                  <a:pt x="6152" y="12254"/>
                </a:cubicBezTo>
                <a:cubicBezTo>
                  <a:pt x="6199" y="12286"/>
                  <a:pt x="6163" y="12360"/>
                  <a:pt x="6176" y="12427"/>
                </a:cubicBezTo>
                <a:cubicBezTo>
                  <a:pt x="6189" y="12496"/>
                  <a:pt x="6223" y="12563"/>
                  <a:pt x="6251" y="12626"/>
                </a:cubicBezTo>
              </a:path>
              <a:path w="2680" h="2060">
                <a:moveTo>
                  <a:pt x="6623" y="12551"/>
                </a:moveTo>
                <a:cubicBezTo>
                  <a:pt x="6674" y="12558"/>
                  <a:pt x="6696" y="12576"/>
                  <a:pt x="6747" y="12576"/>
                </a:cubicBezTo>
              </a:path>
              <a:path w="2680" h="2060">
                <a:moveTo>
                  <a:pt x="6921" y="12179"/>
                </a:moveTo>
                <a:cubicBezTo>
                  <a:pt x="6921" y="12082"/>
                  <a:pt x="6906" y="12110"/>
                  <a:pt x="6921" y="12179"/>
                </a:cubicBezTo>
                <a:cubicBezTo>
                  <a:pt x="6942" y="12277"/>
                  <a:pt x="6947" y="12381"/>
                  <a:pt x="6970" y="12477"/>
                </a:cubicBezTo>
                <a:cubicBezTo>
                  <a:pt x="6978" y="12502"/>
                  <a:pt x="6987" y="12526"/>
                  <a:pt x="6995" y="12551"/>
                </a:cubicBezTo>
              </a:path>
              <a:path w="2680" h="2060">
                <a:moveTo>
                  <a:pt x="7243" y="12204"/>
                </a:moveTo>
                <a:cubicBezTo>
                  <a:pt x="7271" y="12111"/>
                  <a:pt x="7268" y="12077"/>
                  <a:pt x="7268" y="12179"/>
                </a:cubicBezTo>
                <a:cubicBezTo>
                  <a:pt x="7268" y="12261"/>
                  <a:pt x="7299" y="12313"/>
                  <a:pt x="7367" y="12353"/>
                </a:cubicBezTo>
                <a:cubicBezTo>
                  <a:pt x="7442" y="12397"/>
                  <a:pt x="7517" y="12357"/>
                  <a:pt x="7590" y="12402"/>
                </a:cubicBezTo>
                <a:cubicBezTo>
                  <a:pt x="7629" y="12426"/>
                  <a:pt x="7659" y="12506"/>
                  <a:pt x="7640" y="12551"/>
                </a:cubicBezTo>
                <a:cubicBezTo>
                  <a:pt x="7620" y="12599"/>
                  <a:pt x="7501" y="12576"/>
                  <a:pt x="7466" y="12576"/>
                </a:cubicBezTo>
                <a:cubicBezTo>
                  <a:pt x="7408" y="12576"/>
                  <a:pt x="7383" y="12576"/>
                  <a:pt x="7342" y="12576"/>
                </a:cubicBezTo>
              </a:path>
              <a:path w="2680" h="2060">
                <a:moveTo>
                  <a:pt x="7640" y="12030"/>
                </a:moveTo>
                <a:cubicBezTo>
                  <a:pt x="7640" y="12014"/>
                  <a:pt x="7640" y="11997"/>
                  <a:pt x="7640" y="11981"/>
                </a:cubicBezTo>
                <a:cubicBezTo>
                  <a:pt x="7585" y="11994"/>
                  <a:pt x="7525" y="12034"/>
                  <a:pt x="7466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02000" y="4081320"/>
            <a:ext cx="1376280" cy="527040"/>
          </a:xfrm>
          <a:custGeom>
            <a:avLst/>
            <a:gdLst/>
            <a:ahLst/>
            <a:rect l="l" t="t" r="r" b="b"/>
            <a:pathLst>
              <a:path w="3821" h="1464">
                <a:moveTo>
                  <a:pt x="9773" y="11881"/>
                </a:moveTo>
                <a:cubicBezTo>
                  <a:pt x="9698" y="11881"/>
                  <a:pt x="9644" y="11894"/>
                  <a:pt x="9575" y="11906"/>
                </a:cubicBezTo>
                <a:cubicBezTo>
                  <a:pt x="9537" y="11912"/>
                  <a:pt x="9490" y="11906"/>
                  <a:pt x="9451" y="11906"/>
                </a:cubicBezTo>
              </a:path>
              <a:path w="3821" h="1464">
                <a:moveTo>
                  <a:pt x="9798" y="11981"/>
                </a:moveTo>
                <a:cubicBezTo>
                  <a:pt x="9814" y="11981"/>
                  <a:pt x="9831" y="11981"/>
                  <a:pt x="9847" y="11981"/>
                </a:cubicBezTo>
                <a:cubicBezTo>
                  <a:pt x="9832" y="12041"/>
                  <a:pt x="9808" y="12030"/>
                  <a:pt x="9748" y="12030"/>
                </a:cubicBezTo>
                <a:cubicBezTo>
                  <a:pt x="9682" y="12030"/>
                  <a:pt x="9665" y="12030"/>
                  <a:pt x="9624" y="12030"/>
                </a:cubicBezTo>
              </a:path>
              <a:path w="3821" h="1464">
                <a:moveTo>
                  <a:pt x="11038" y="11981"/>
                </a:moveTo>
                <a:cubicBezTo>
                  <a:pt x="11006" y="12004"/>
                  <a:pt x="10995" y="12006"/>
                  <a:pt x="10964" y="12030"/>
                </a:cubicBezTo>
                <a:cubicBezTo>
                  <a:pt x="10985" y="11955"/>
                  <a:pt x="11057" y="11903"/>
                  <a:pt x="11137" y="11857"/>
                </a:cubicBezTo>
                <a:cubicBezTo>
                  <a:pt x="11204" y="11818"/>
                  <a:pt x="11377" y="11733"/>
                  <a:pt x="11460" y="11782"/>
                </a:cubicBezTo>
                <a:cubicBezTo>
                  <a:pt x="11532" y="11824"/>
                  <a:pt x="11551" y="11981"/>
                  <a:pt x="11534" y="12055"/>
                </a:cubicBezTo>
                <a:cubicBezTo>
                  <a:pt x="11513" y="12146"/>
                  <a:pt x="11435" y="12208"/>
                  <a:pt x="11361" y="12254"/>
                </a:cubicBezTo>
                <a:cubicBezTo>
                  <a:pt x="11317" y="12275"/>
                  <a:pt x="11305" y="12278"/>
                  <a:pt x="11286" y="12303"/>
                </a:cubicBezTo>
                <a:cubicBezTo>
                  <a:pt x="11354" y="12344"/>
                  <a:pt x="11407" y="12309"/>
                  <a:pt x="11485" y="12328"/>
                </a:cubicBezTo>
                <a:cubicBezTo>
                  <a:pt x="11520" y="12336"/>
                  <a:pt x="11621" y="12385"/>
                  <a:pt x="11633" y="12427"/>
                </a:cubicBezTo>
                <a:cubicBezTo>
                  <a:pt x="11648" y="12480"/>
                  <a:pt x="11607" y="12523"/>
                  <a:pt x="11559" y="12526"/>
                </a:cubicBezTo>
                <a:cubicBezTo>
                  <a:pt x="11489" y="12531"/>
                  <a:pt x="11435" y="12551"/>
                  <a:pt x="11361" y="12551"/>
                </a:cubicBezTo>
                <a:cubicBezTo>
                  <a:pt x="11319" y="12551"/>
                  <a:pt x="11311" y="12551"/>
                  <a:pt x="11286" y="12551"/>
                </a:cubicBezTo>
              </a:path>
              <a:path w="3821" h="1464">
                <a:moveTo>
                  <a:pt x="11906" y="11931"/>
                </a:moveTo>
                <a:cubicBezTo>
                  <a:pt x="11926" y="11890"/>
                  <a:pt x="11924" y="11874"/>
                  <a:pt x="11956" y="11881"/>
                </a:cubicBezTo>
                <a:cubicBezTo>
                  <a:pt x="11956" y="11954"/>
                  <a:pt x="11947" y="12036"/>
                  <a:pt x="11931" y="12105"/>
                </a:cubicBezTo>
                <a:cubicBezTo>
                  <a:pt x="11909" y="12205"/>
                  <a:pt x="11889" y="12280"/>
                  <a:pt x="11931" y="12378"/>
                </a:cubicBezTo>
                <a:cubicBezTo>
                  <a:pt x="11956" y="12436"/>
                  <a:pt x="11989" y="12473"/>
                  <a:pt x="12055" y="12477"/>
                </a:cubicBezTo>
                <a:cubicBezTo>
                  <a:pt x="12130" y="12482"/>
                  <a:pt x="12183" y="12458"/>
                  <a:pt x="12254" y="12452"/>
                </a:cubicBezTo>
                <a:cubicBezTo>
                  <a:pt x="12320" y="12447"/>
                  <a:pt x="12349" y="12445"/>
                  <a:pt x="12402" y="12427"/>
                </a:cubicBezTo>
                <a:cubicBezTo>
                  <a:pt x="12410" y="12427"/>
                  <a:pt x="12419" y="12427"/>
                  <a:pt x="12427" y="12427"/>
                </a:cubicBezTo>
              </a:path>
              <a:path w="3821" h="1464">
                <a:moveTo>
                  <a:pt x="12229" y="12278"/>
                </a:moveTo>
                <a:cubicBezTo>
                  <a:pt x="12204" y="12278"/>
                  <a:pt x="12196" y="12278"/>
                  <a:pt x="12179" y="12278"/>
                </a:cubicBezTo>
                <a:cubicBezTo>
                  <a:pt x="12179" y="12375"/>
                  <a:pt x="12191" y="12458"/>
                  <a:pt x="12204" y="12551"/>
                </a:cubicBezTo>
                <a:cubicBezTo>
                  <a:pt x="12204" y="12601"/>
                  <a:pt x="12204" y="12617"/>
                  <a:pt x="12204" y="12650"/>
                </a:cubicBezTo>
              </a:path>
              <a:path w="3821" h="1464">
                <a:moveTo>
                  <a:pt x="12427" y="11857"/>
                </a:moveTo>
                <a:cubicBezTo>
                  <a:pt x="12427" y="11903"/>
                  <a:pt x="12421" y="11921"/>
                  <a:pt x="12452" y="11956"/>
                </a:cubicBezTo>
                <a:cubicBezTo>
                  <a:pt x="12499" y="12009"/>
                  <a:pt x="12540" y="11965"/>
                  <a:pt x="12601" y="11956"/>
                </a:cubicBezTo>
                <a:cubicBezTo>
                  <a:pt x="12685" y="11943"/>
                  <a:pt x="12762" y="11931"/>
                  <a:pt x="12849" y="11931"/>
                </a:cubicBezTo>
                <a:cubicBezTo>
                  <a:pt x="12921" y="11931"/>
                  <a:pt x="12945" y="11961"/>
                  <a:pt x="12948" y="12030"/>
                </a:cubicBezTo>
                <a:cubicBezTo>
                  <a:pt x="12954" y="12152"/>
                  <a:pt x="12896" y="12201"/>
                  <a:pt x="12849" y="12303"/>
                </a:cubicBezTo>
                <a:cubicBezTo>
                  <a:pt x="12822" y="12362"/>
                  <a:pt x="12774" y="12422"/>
                  <a:pt x="12750" y="12477"/>
                </a:cubicBezTo>
                <a:cubicBezTo>
                  <a:pt x="12750" y="12505"/>
                  <a:pt x="12748" y="12516"/>
                  <a:pt x="12725" y="12526"/>
                </a:cubicBezTo>
              </a:path>
              <a:path w="3821" h="1464">
                <a:moveTo>
                  <a:pt x="13271" y="12526"/>
                </a:moveTo>
                <a:cubicBezTo>
                  <a:pt x="13271" y="12551"/>
                  <a:pt x="13271" y="12559"/>
                  <a:pt x="13271" y="12576"/>
                </a:cubicBezTo>
              </a:path>
              <a:path w="3821" h="1464">
                <a:moveTo>
                  <a:pt x="10616" y="11460"/>
                </a:moveTo>
                <a:cubicBezTo>
                  <a:pt x="10652" y="11510"/>
                  <a:pt x="10658" y="11518"/>
                  <a:pt x="10716" y="11534"/>
                </a:cubicBezTo>
                <a:cubicBezTo>
                  <a:pt x="10740" y="11534"/>
                  <a:pt x="10749" y="11534"/>
                  <a:pt x="10765" y="11534"/>
                </a:cubicBezTo>
                <a:cubicBezTo>
                  <a:pt x="10758" y="11485"/>
                  <a:pt x="10732" y="11399"/>
                  <a:pt x="10691" y="11361"/>
                </a:cubicBezTo>
                <a:cubicBezTo>
                  <a:pt x="10614" y="11290"/>
                  <a:pt x="10545" y="11394"/>
                  <a:pt x="10517" y="11460"/>
                </a:cubicBezTo>
                <a:cubicBezTo>
                  <a:pt x="10450" y="11619"/>
                  <a:pt x="10454" y="11837"/>
                  <a:pt x="10468" y="12005"/>
                </a:cubicBezTo>
                <a:cubicBezTo>
                  <a:pt x="10484" y="12205"/>
                  <a:pt x="10542" y="12384"/>
                  <a:pt x="10592" y="12576"/>
                </a:cubicBezTo>
                <a:cubicBezTo>
                  <a:pt x="10612" y="12653"/>
                  <a:pt x="10621" y="12726"/>
                  <a:pt x="10641" y="12799"/>
                </a:cubicBezTo>
                <a:cubicBezTo>
                  <a:pt x="10684" y="12783"/>
                  <a:pt x="10723" y="12772"/>
                  <a:pt x="10765" y="12750"/>
                </a:cubicBezTo>
                <a:cubicBezTo>
                  <a:pt x="10795" y="12734"/>
                  <a:pt x="10867" y="12740"/>
                  <a:pt x="10889" y="12725"/>
                </a:cubicBezTo>
                <a:cubicBezTo>
                  <a:pt x="10889" y="12717"/>
                  <a:pt x="10889" y="12708"/>
                  <a:pt x="10889" y="12700"/>
                </a:cubicBezTo>
              </a:path>
              <a:path w="3821" h="1464">
                <a:moveTo>
                  <a:pt x="10666" y="12179"/>
                </a:moveTo>
                <a:cubicBezTo>
                  <a:pt x="10674" y="12171"/>
                  <a:pt x="10683" y="12162"/>
                  <a:pt x="10691" y="12154"/>
                </a:cubicBezTo>
                <a:cubicBezTo>
                  <a:pt x="10640" y="12167"/>
                  <a:pt x="10598" y="12217"/>
                  <a:pt x="10542" y="12229"/>
                </a:cubicBezTo>
                <a:cubicBezTo>
                  <a:pt x="10497" y="12229"/>
                  <a:pt x="10484" y="12225"/>
                  <a:pt x="10468" y="12254"/>
                </a:cubicBezTo>
              </a:path>
              <a:path w="3821" h="1464">
                <a:moveTo>
                  <a:pt x="10716" y="12328"/>
                </a:moveTo>
                <a:cubicBezTo>
                  <a:pt x="10782" y="12351"/>
                  <a:pt x="10704" y="12376"/>
                  <a:pt x="10666" y="12378"/>
                </a:cubicBezTo>
                <a:cubicBezTo>
                  <a:pt x="10649" y="12378"/>
                  <a:pt x="10633" y="12378"/>
                  <a:pt x="10616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27760" y="4330800"/>
            <a:ext cx="500040" cy="27756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14263" y="12204"/>
                </a:moveTo>
                <a:cubicBezTo>
                  <a:pt x="14303" y="12187"/>
                  <a:pt x="14366" y="12174"/>
                  <a:pt x="14387" y="12129"/>
                </a:cubicBezTo>
                <a:cubicBezTo>
                  <a:pt x="14406" y="12087"/>
                  <a:pt x="14379" y="12067"/>
                  <a:pt x="14362" y="12055"/>
                </a:cubicBezTo>
                <a:cubicBezTo>
                  <a:pt x="14302" y="12010"/>
                  <a:pt x="14255" y="12032"/>
                  <a:pt x="14188" y="12055"/>
                </a:cubicBezTo>
                <a:cubicBezTo>
                  <a:pt x="14092" y="12089"/>
                  <a:pt x="14039" y="12141"/>
                  <a:pt x="13990" y="12229"/>
                </a:cubicBezTo>
                <a:cubicBezTo>
                  <a:pt x="13961" y="12282"/>
                  <a:pt x="13981" y="12391"/>
                  <a:pt x="14039" y="12427"/>
                </a:cubicBezTo>
                <a:cubicBezTo>
                  <a:pt x="14122" y="12479"/>
                  <a:pt x="14227" y="12467"/>
                  <a:pt x="14312" y="12502"/>
                </a:cubicBezTo>
                <a:cubicBezTo>
                  <a:pt x="14364" y="12523"/>
                  <a:pt x="14430" y="12541"/>
                  <a:pt x="14436" y="12601"/>
                </a:cubicBezTo>
                <a:cubicBezTo>
                  <a:pt x="14440" y="12642"/>
                  <a:pt x="14398" y="12672"/>
                  <a:pt x="14362" y="12675"/>
                </a:cubicBezTo>
                <a:cubicBezTo>
                  <a:pt x="14289" y="12680"/>
                  <a:pt x="14243" y="12675"/>
                  <a:pt x="14188" y="12626"/>
                </a:cubicBezTo>
                <a:cubicBezTo>
                  <a:pt x="14140" y="12583"/>
                  <a:pt x="14178" y="12521"/>
                  <a:pt x="14213" y="12477"/>
                </a:cubicBezTo>
                <a:cubicBezTo>
                  <a:pt x="14264" y="12412"/>
                  <a:pt x="14318" y="12328"/>
                  <a:pt x="14387" y="12278"/>
                </a:cubicBezTo>
                <a:cubicBezTo>
                  <a:pt x="14403" y="12270"/>
                  <a:pt x="14420" y="12262"/>
                  <a:pt x="14436" y="12254"/>
                </a:cubicBezTo>
              </a:path>
              <a:path w="1390" h="770">
                <a:moveTo>
                  <a:pt x="14883" y="12204"/>
                </a:moveTo>
                <a:cubicBezTo>
                  <a:pt x="14844" y="12182"/>
                  <a:pt x="14788" y="12164"/>
                  <a:pt x="14784" y="12129"/>
                </a:cubicBezTo>
                <a:cubicBezTo>
                  <a:pt x="14784" y="12121"/>
                  <a:pt x="14784" y="12113"/>
                  <a:pt x="14784" y="12105"/>
                </a:cubicBezTo>
                <a:cubicBezTo>
                  <a:pt x="14831" y="12066"/>
                  <a:pt x="14897" y="12038"/>
                  <a:pt x="14957" y="12030"/>
                </a:cubicBezTo>
                <a:cubicBezTo>
                  <a:pt x="15046" y="12018"/>
                  <a:pt x="15115" y="12062"/>
                  <a:pt x="15131" y="12154"/>
                </a:cubicBezTo>
                <a:cubicBezTo>
                  <a:pt x="15149" y="12257"/>
                  <a:pt x="15082" y="12303"/>
                  <a:pt x="15032" y="12378"/>
                </a:cubicBezTo>
                <a:cubicBezTo>
                  <a:pt x="15004" y="12420"/>
                  <a:pt x="14975" y="12441"/>
                  <a:pt x="14957" y="12477"/>
                </a:cubicBezTo>
                <a:cubicBezTo>
                  <a:pt x="15018" y="12537"/>
                  <a:pt x="15073" y="12526"/>
                  <a:pt x="15156" y="12551"/>
                </a:cubicBezTo>
                <a:cubicBezTo>
                  <a:pt x="15244" y="12577"/>
                  <a:pt x="15319" y="12608"/>
                  <a:pt x="15354" y="12700"/>
                </a:cubicBezTo>
                <a:cubicBezTo>
                  <a:pt x="15388" y="12788"/>
                  <a:pt x="15254" y="12797"/>
                  <a:pt x="15205" y="12799"/>
                </a:cubicBezTo>
                <a:cubicBezTo>
                  <a:pt x="15105" y="12799"/>
                  <a:pt x="15071" y="12799"/>
                  <a:pt x="15007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96040" y="3089160"/>
            <a:ext cx="1000080" cy="465120"/>
          </a:xfrm>
          <a:custGeom>
            <a:avLst/>
            <a:gdLst/>
            <a:ahLst/>
            <a:rect l="l" t="t" r="r" b="b"/>
            <a:pathLst>
              <a:path w="2779" h="1291">
                <a:moveTo>
                  <a:pt x="17785" y="9004"/>
                </a:moveTo>
                <a:cubicBezTo>
                  <a:pt x="17830" y="8914"/>
                  <a:pt x="17894" y="8808"/>
                  <a:pt x="17909" y="8706"/>
                </a:cubicBezTo>
                <a:cubicBezTo>
                  <a:pt x="17909" y="8638"/>
                  <a:pt x="17912" y="8619"/>
                  <a:pt x="17884" y="8582"/>
                </a:cubicBezTo>
                <a:cubicBezTo>
                  <a:pt x="17768" y="8614"/>
                  <a:pt x="17779" y="8638"/>
                  <a:pt x="17711" y="8756"/>
                </a:cubicBezTo>
                <a:cubicBezTo>
                  <a:pt x="17599" y="8950"/>
                  <a:pt x="17591" y="9154"/>
                  <a:pt x="17587" y="9376"/>
                </a:cubicBezTo>
                <a:cubicBezTo>
                  <a:pt x="17584" y="9536"/>
                  <a:pt x="17595" y="9689"/>
                  <a:pt x="17686" y="9823"/>
                </a:cubicBezTo>
                <a:cubicBezTo>
                  <a:pt x="17740" y="9902"/>
                  <a:pt x="17794" y="9856"/>
                  <a:pt x="17859" y="9847"/>
                </a:cubicBezTo>
                <a:cubicBezTo>
                  <a:pt x="17937" y="9837"/>
                  <a:pt x="17996" y="9853"/>
                  <a:pt x="18058" y="9872"/>
                </a:cubicBezTo>
                <a:cubicBezTo>
                  <a:pt x="18066" y="9872"/>
                  <a:pt x="18075" y="9872"/>
                  <a:pt x="18083" y="9872"/>
                </a:cubicBezTo>
              </a:path>
              <a:path w="2779" h="1291">
                <a:moveTo>
                  <a:pt x="17810" y="9351"/>
                </a:moveTo>
                <a:cubicBezTo>
                  <a:pt x="17833" y="9329"/>
                  <a:pt x="17841" y="9324"/>
                  <a:pt x="17835" y="9302"/>
                </a:cubicBezTo>
                <a:cubicBezTo>
                  <a:pt x="17790" y="9313"/>
                  <a:pt x="17733" y="9335"/>
                  <a:pt x="17686" y="9351"/>
                </a:cubicBezTo>
                <a:cubicBezTo>
                  <a:pt x="17617" y="9374"/>
                  <a:pt x="17555" y="9375"/>
                  <a:pt x="17487" y="9401"/>
                </a:cubicBezTo>
              </a:path>
              <a:path w="2779" h="1291">
                <a:moveTo>
                  <a:pt x="17810" y="9475"/>
                </a:moveTo>
                <a:cubicBezTo>
                  <a:pt x="17866" y="9513"/>
                  <a:pt x="17891" y="9508"/>
                  <a:pt x="17884" y="9550"/>
                </a:cubicBezTo>
                <a:cubicBezTo>
                  <a:pt x="17847" y="9578"/>
                  <a:pt x="17783" y="9613"/>
                  <a:pt x="17735" y="9624"/>
                </a:cubicBezTo>
                <a:cubicBezTo>
                  <a:pt x="17686" y="9624"/>
                  <a:pt x="17669" y="9624"/>
                  <a:pt x="17636" y="9624"/>
                </a:cubicBezTo>
              </a:path>
              <a:path w="2779" h="1291">
                <a:moveTo>
                  <a:pt x="18380" y="8979"/>
                </a:moveTo>
                <a:cubicBezTo>
                  <a:pt x="18439" y="8999"/>
                  <a:pt x="18374" y="9054"/>
                  <a:pt x="18355" y="9103"/>
                </a:cubicBezTo>
                <a:cubicBezTo>
                  <a:pt x="18319" y="9197"/>
                  <a:pt x="18282" y="9324"/>
                  <a:pt x="18306" y="9426"/>
                </a:cubicBezTo>
                <a:cubicBezTo>
                  <a:pt x="18321" y="9493"/>
                  <a:pt x="18361" y="9545"/>
                  <a:pt x="18430" y="9550"/>
                </a:cubicBezTo>
                <a:cubicBezTo>
                  <a:pt x="18566" y="9559"/>
                  <a:pt x="18697" y="9553"/>
                  <a:pt x="18827" y="9575"/>
                </a:cubicBezTo>
                <a:cubicBezTo>
                  <a:pt x="18868" y="9582"/>
                  <a:pt x="18942" y="9575"/>
                  <a:pt x="18901" y="9575"/>
                </a:cubicBezTo>
              </a:path>
              <a:path w="2779" h="1291">
                <a:moveTo>
                  <a:pt x="18703" y="9475"/>
                </a:moveTo>
                <a:cubicBezTo>
                  <a:pt x="18645" y="9457"/>
                  <a:pt x="18639" y="9449"/>
                  <a:pt x="18604" y="9451"/>
                </a:cubicBezTo>
                <a:cubicBezTo>
                  <a:pt x="18570" y="9518"/>
                  <a:pt x="18579" y="9593"/>
                  <a:pt x="18579" y="9674"/>
                </a:cubicBezTo>
                <a:cubicBezTo>
                  <a:pt x="18579" y="9738"/>
                  <a:pt x="18593" y="9766"/>
                  <a:pt x="18604" y="9823"/>
                </a:cubicBezTo>
              </a:path>
              <a:path w="2779" h="1291">
                <a:moveTo>
                  <a:pt x="19149" y="9500"/>
                </a:moveTo>
                <a:cubicBezTo>
                  <a:pt x="19107" y="9468"/>
                  <a:pt x="19100" y="9481"/>
                  <a:pt x="19100" y="9426"/>
                </a:cubicBezTo>
                <a:cubicBezTo>
                  <a:pt x="19100" y="9353"/>
                  <a:pt x="19138" y="9313"/>
                  <a:pt x="19199" y="9277"/>
                </a:cubicBezTo>
                <a:cubicBezTo>
                  <a:pt x="19288" y="9224"/>
                  <a:pt x="19382" y="9251"/>
                  <a:pt x="19447" y="9327"/>
                </a:cubicBezTo>
                <a:cubicBezTo>
                  <a:pt x="19530" y="9423"/>
                  <a:pt x="19531" y="9512"/>
                  <a:pt x="19496" y="9624"/>
                </a:cubicBezTo>
                <a:cubicBezTo>
                  <a:pt x="19462" y="9731"/>
                  <a:pt x="19384" y="9748"/>
                  <a:pt x="19273" y="9723"/>
                </a:cubicBezTo>
                <a:cubicBezTo>
                  <a:pt x="19198" y="9706"/>
                  <a:pt x="19159" y="9660"/>
                  <a:pt x="19124" y="9599"/>
                </a:cubicBezTo>
              </a:path>
              <a:path w="2779" h="1291">
                <a:moveTo>
                  <a:pt x="19968" y="9475"/>
                </a:moveTo>
                <a:cubicBezTo>
                  <a:pt x="19930" y="9463"/>
                  <a:pt x="19943" y="9446"/>
                  <a:pt x="19943" y="9401"/>
                </a:cubicBezTo>
                <a:cubicBezTo>
                  <a:pt x="19943" y="9346"/>
                  <a:pt x="19984" y="9265"/>
                  <a:pt x="20042" y="9252"/>
                </a:cubicBezTo>
                <a:cubicBezTo>
                  <a:pt x="20157" y="9226"/>
                  <a:pt x="20207" y="9312"/>
                  <a:pt x="20241" y="9401"/>
                </a:cubicBezTo>
                <a:cubicBezTo>
                  <a:pt x="20270" y="9477"/>
                  <a:pt x="20299" y="9634"/>
                  <a:pt x="20191" y="9674"/>
                </a:cubicBezTo>
                <a:cubicBezTo>
                  <a:pt x="20083" y="9714"/>
                  <a:pt x="19948" y="9640"/>
                  <a:pt x="19869" y="9575"/>
                </a:cubicBezTo>
                <a:cubicBezTo>
                  <a:pt x="19807" y="9513"/>
                  <a:pt x="19782" y="9507"/>
                  <a:pt x="19794" y="94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21000" y="328608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9599" y="9153"/>
                </a:moveTo>
                <a:cubicBezTo>
                  <a:pt x="9607" y="9145"/>
                  <a:pt x="9616" y="9136"/>
                  <a:pt x="9624" y="9128"/>
                </a:cubicBezTo>
                <a:cubicBezTo>
                  <a:pt x="9573" y="9141"/>
                  <a:pt x="9533" y="9207"/>
                  <a:pt x="9500" y="9252"/>
                </a:cubicBezTo>
                <a:cubicBezTo>
                  <a:pt x="9444" y="9328"/>
                  <a:pt x="9378" y="9398"/>
                  <a:pt x="9327" y="9475"/>
                </a:cubicBezTo>
                <a:cubicBezTo>
                  <a:pt x="9301" y="9514"/>
                  <a:pt x="9263" y="9558"/>
                  <a:pt x="9252" y="9599"/>
                </a:cubicBezTo>
              </a:path>
              <a:path w="423" h="472">
                <a:moveTo>
                  <a:pt x="9649" y="9475"/>
                </a:moveTo>
                <a:cubicBezTo>
                  <a:pt x="9649" y="9415"/>
                  <a:pt x="9640" y="9439"/>
                  <a:pt x="9599" y="9401"/>
                </a:cubicBezTo>
                <a:cubicBezTo>
                  <a:pt x="9522" y="9328"/>
                  <a:pt x="9435" y="9286"/>
                  <a:pt x="9351" y="9227"/>
                </a:cubicBezTo>
                <a:cubicBezTo>
                  <a:pt x="9286" y="9184"/>
                  <a:pt x="9271" y="9173"/>
                  <a:pt x="9227" y="91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5120" y="3241800"/>
            <a:ext cx="189000" cy="206280"/>
          </a:xfrm>
          <a:custGeom>
            <a:avLst/>
            <a:gdLst/>
            <a:ahLst/>
            <a:rect l="l" t="t" r="r" b="b"/>
            <a:pathLst>
              <a:path w="522" h="572">
                <a:moveTo>
                  <a:pt x="10294" y="9029"/>
                </a:moveTo>
                <a:cubicBezTo>
                  <a:pt x="10367" y="9011"/>
                  <a:pt x="10344" y="9102"/>
                  <a:pt x="10344" y="9178"/>
                </a:cubicBezTo>
                <a:cubicBezTo>
                  <a:pt x="10344" y="9316"/>
                  <a:pt x="10385" y="9442"/>
                  <a:pt x="10418" y="9575"/>
                </a:cubicBezTo>
              </a:path>
              <a:path w="522" h="572">
                <a:moveTo>
                  <a:pt x="10765" y="9550"/>
                </a:moveTo>
                <a:cubicBezTo>
                  <a:pt x="10782" y="9558"/>
                  <a:pt x="10798" y="9567"/>
                  <a:pt x="10815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89240" y="3143160"/>
            <a:ext cx="376560" cy="312840"/>
          </a:xfrm>
          <a:custGeom>
            <a:avLst/>
            <a:gdLst/>
            <a:ahLst/>
            <a:rect l="l" t="t" r="r" b="b"/>
            <a:pathLst>
              <a:path w="1042" h="869">
                <a:moveTo>
                  <a:pt x="11361" y="9054"/>
                </a:moveTo>
                <a:cubicBezTo>
                  <a:pt x="11361" y="8983"/>
                  <a:pt x="11385" y="9178"/>
                  <a:pt x="11385" y="9178"/>
                </a:cubicBezTo>
                <a:cubicBezTo>
                  <a:pt x="11396" y="9294"/>
                  <a:pt x="11396" y="9414"/>
                  <a:pt x="11435" y="9525"/>
                </a:cubicBezTo>
                <a:cubicBezTo>
                  <a:pt x="11443" y="9542"/>
                  <a:pt x="11452" y="9558"/>
                  <a:pt x="11460" y="9575"/>
                </a:cubicBezTo>
              </a:path>
              <a:path w="1042" h="869">
                <a:moveTo>
                  <a:pt x="11832" y="9054"/>
                </a:moveTo>
                <a:cubicBezTo>
                  <a:pt x="11869" y="8997"/>
                  <a:pt x="11886" y="8994"/>
                  <a:pt x="11881" y="8954"/>
                </a:cubicBezTo>
                <a:cubicBezTo>
                  <a:pt x="11838" y="9010"/>
                  <a:pt x="11811" y="9057"/>
                  <a:pt x="11807" y="9128"/>
                </a:cubicBezTo>
                <a:cubicBezTo>
                  <a:pt x="11802" y="9220"/>
                  <a:pt x="11815" y="9262"/>
                  <a:pt x="11906" y="9302"/>
                </a:cubicBezTo>
                <a:cubicBezTo>
                  <a:pt x="11977" y="9333"/>
                  <a:pt x="12103" y="9363"/>
                  <a:pt x="12179" y="9376"/>
                </a:cubicBezTo>
                <a:cubicBezTo>
                  <a:pt x="12270" y="9391"/>
                  <a:pt x="12320" y="9400"/>
                  <a:pt x="12328" y="9500"/>
                </a:cubicBezTo>
                <a:cubicBezTo>
                  <a:pt x="12332" y="9543"/>
                  <a:pt x="12269" y="9592"/>
                  <a:pt x="12229" y="9599"/>
                </a:cubicBezTo>
                <a:cubicBezTo>
                  <a:pt x="12160" y="9611"/>
                  <a:pt x="12075" y="9599"/>
                  <a:pt x="12005" y="9599"/>
                </a:cubicBezTo>
              </a:path>
              <a:path w="1042" h="869">
                <a:moveTo>
                  <a:pt x="11906" y="9079"/>
                </a:moveTo>
                <a:cubicBezTo>
                  <a:pt x="11939" y="8938"/>
                  <a:pt x="11959" y="8865"/>
                  <a:pt x="12105" y="8806"/>
                </a:cubicBezTo>
                <a:cubicBezTo>
                  <a:pt x="12207" y="8765"/>
                  <a:pt x="12296" y="8744"/>
                  <a:pt x="12402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16680" y="3295800"/>
            <a:ext cx="134640" cy="1062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4486" y="9178"/>
                </a:moveTo>
                <a:cubicBezTo>
                  <a:pt x="14486" y="9170"/>
                  <a:pt x="14486" y="9161"/>
                  <a:pt x="14486" y="9153"/>
                </a:cubicBezTo>
                <a:cubicBezTo>
                  <a:pt x="14432" y="9153"/>
                  <a:pt x="14417" y="9175"/>
                  <a:pt x="14362" y="9178"/>
                </a:cubicBezTo>
                <a:cubicBezTo>
                  <a:pt x="14300" y="9182"/>
                  <a:pt x="14266" y="9190"/>
                  <a:pt x="14213" y="9203"/>
                </a:cubicBezTo>
              </a:path>
              <a:path w="373" h="299">
                <a:moveTo>
                  <a:pt x="14536" y="9426"/>
                </a:moveTo>
                <a:cubicBezTo>
                  <a:pt x="14552" y="9426"/>
                  <a:pt x="14569" y="9426"/>
                  <a:pt x="14585" y="9426"/>
                </a:cubicBezTo>
                <a:cubicBezTo>
                  <a:pt x="14525" y="9462"/>
                  <a:pt x="14461" y="9451"/>
                  <a:pt x="14387" y="9451"/>
                </a:cubicBezTo>
                <a:cubicBezTo>
                  <a:pt x="14362" y="9451"/>
                  <a:pt x="14337" y="9451"/>
                  <a:pt x="14312" y="94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pper and Lower Boun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possible range of thes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to nearest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&lt;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3 to nearest 1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&lt; 4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to nearest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≤ x &lt; 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 to nearest 2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.5 ≤ x &lt; 6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000 to nearest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9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&lt; 440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 – decimal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 – significant 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0:38:32Z</dcterms:created>
  <dc:creator>N Holden</dc:creator>
  <dc:description/>
  <dc:language>en-US</dc:language>
  <cp:lastModifiedBy>N Holden</cp:lastModifiedBy>
  <dcterms:modified xsi:type="dcterms:W3CDTF">2009-02-09T15:15:18Z</dcterms:modified>
  <cp:revision>5</cp:revision>
  <dc:subject/>
  <dc:title>IGCSE Revision Lesson 1</dc:title>
</cp:coreProperties>
</file>